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9.gif" ContentType="image/gif"/>
  <Override PartName="/ppt/media/image19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84D-85A3-4EC0-95F7-716F0563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3C2-7634-4CF7-BBA9-39BBE091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A13-EDF5-4DCB-8D7D-7B8DB778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1149-2491-4A5C-8E62-DFEA177A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7FFC-7713-4B9B-8C51-C34BE380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391F-5D21-4CA8-9730-2D3A94E6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A254-38B4-444A-A2B7-C41C0910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AEDF-1C12-480D-8D9A-2F27B3BB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4BE1-BE0A-439C-BB39-BAB4CA0D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337B-61C5-4335-A9CB-FBCC3DFA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253F-0DCC-4FF6-80F1-3501688A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099F-7B9C-4688-B60B-93905D21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DCE3-ECB1-410F-804D-329F3938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BDDA-E355-4E18-8265-42DC6B6D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E776-2C54-419B-B78F-FE6C32C6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E2BA-4F28-4173-AC6D-F5B32848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0616-6866-4D1F-B6E6-623DEC690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C626A-B297-41B5-8C01-97AB4530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75571-4338-45BC-ACC3-8327DEA3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D0111-EF03-40C1-96A6-AD97C8F3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50236-1988-4F63-B488-72CA0EAE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DFC15-86E3-4C9C-9C67-64A08630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B098-FCB6-480C-9260-FCDEAD15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5C3AA-F2C3-4433-BB83-1552650A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3F35A-7796-4BE6-91CB-D94166DE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66522-D0CE-4A21-BD25-047911FD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DF23B-9144-49E3-A091-B3719E90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61FAE-BF93-464C-A2B7-BDFAD607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9B978-F5F0-4C33-9983-6B9EFE1B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DE841-2A7F-4521-BBF8-5CDCF1A6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772E2-DC12-4B93-B0B4-70EF7069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BB1F7-94EC-4B50-B93A-EA91EB37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01DDB-C6A8-423E-9898-F0F1D4A1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4A5-EF99-484B-8526-2C1DF513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16AD5-D412-48F6-8455-541E5D03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F6D39-AD0A-4779-B6EB-9A5AC614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DD0E1-64B8-4374-8C54-5DBE0B75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096DD-0770-4F37-8C91-08F1B392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1109C-420A-449A-8613-BDA97084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95ED9-934C-48C3-8904-3F95DBFA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272E2-3B28-41AE-BFE5-66C02F18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FB5BB-4946-4276-BC83-3F7CB96D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B6488-0313-48B1-BF60-63DC4175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A1B2E-4B21-4089-98B7-82E3994D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2B0-2524-483F-91AC-DA50311E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BC400-9A5E-4318-BE36-7D8DD28E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10317-D3E3-45E1-812A-AE218ED8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D0B62-3BE7-4FE1-A9A5-A3805B9B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E5B05-AD4E-4C98-BB35-57FF219E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A84A7-282B-4F7C-8CBC-0AB9E36A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59A85-4A9D-4E7B-AC40-5554CDD9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6FB32-3E5B-48E0-A450-AE2C77AE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F7CAA-DC32-4B1F-9CF0-57E35176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C329F-14CF-412F-9562-FBCEB69A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E513B-080C-47B3-9DC2-D83A4684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53F-7D47-4DDB-9B55-F0B8A688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31D0B-0B6B-4EA5-9236-F654FE9C4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1D8-4CD1-433A-9AC5-53F74EE3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F8F-9183-4B32-BA5D-5B46F1F1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847-AE0D-4A36-8096-760447FB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08CD-56C8-4900-84CF-2B6E934EB9B0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D02B-0B61-482C-976E-A8F6B2803E9B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DC46-ED3C-4A2E-85AE-1B340A4F66F0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35C9-846C-4172-80A7-E5DB08C2C124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117E-2A27-4286-8591-42EB6AA3F5C3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520" y="306216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«Миссия жить!»</a:t>
            </a:r>
            <a:br>
              <a:rPr sz="7200"/>
            </a:br>
            <a:br>
              <a:rPr sz="8000"/>
            </a:br>
            <a:endParaRPr b="0" lang="en-US" sz="72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19" name="Рисунок 5" descr="misli_html_m658e97f.gif"/>
          <p:cNvPicPr/>
          <p:nvPr/>
        </p:nvPicPr>
        <p:blipFill>
          <a:blip r:embed="rId1"/>
          <a:stretch/>
        </p:blipFill>
        <p:spPr>
          <a:xfrm>
            <a:off x="3276720" y="3276720"/>
            <a:ext cx="2670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2133720" y="152280"/>
            <a:ext cx="464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5" descr="79857"/>
          <p:cNvPicPr/>
          <p:nvPr/>
        </p:nvPicPr>
        <p:blipFill>
          <a:blip r:embed="rId1"/>
          <a:stretch/>
        </p:blipFill>
        <p:spPr>
          <a:xfrm>
            <a:off x="-457200" y="20574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2286000" y="1860480"/>
            <a:ext cx="6172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 статистике в нашей стране курят около 60% мужчин и 50-55% женщ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урение табака представляет серьезную угрозу для здоровья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ым табака содержит около 3 тысяч  химических веществ, которые повреждают живые ткани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икотин – один из самых ядовитых веществ, который во время курения всасывается из легких в кровь в течение 7 секунд и проникает во все органы организм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 время курения происходит сужение сосудов головного мозга, что повышает кровяное давл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ыкуривание одной сигареты приводит к учащению пульса на 18-20 ударов в мину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0027-027-Fotografii-ljudej-do-i-posle-togo-kak-oni-nachali-prinimat-narkoti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1327878049_0_77549_c409d38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5"/>
          <p:cNvSpPr/>
          <p:nvPr/>
        </p:nvSpPr>
        <p:spPr>
          <a:xfrm>
            <a:off x="380880" y="34596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Дети Белгорода против вредных привыче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57200" y="990720"/>
            <a:ext cx="832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Белгороде за борьбу с наркотиками и алкоголем взялись юные жители го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«Нет вредным привычкам!»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казали белгородские дети и нарисова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ножество плакатов и комиксо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 заданную тему, пытаясь тем самы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стучаться до своих же сверстнико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потребляющих наркотики и алкогол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429000" y="4038480"/>
            <a:ext cx="5486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етья городская выставка «Наше здоровье в наших руках» объедини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лодых художников из 33 школ Белгорода. Свыше 200 работ в экспоз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ссказывают о вреде наркотиков, табака и алкоголя, о пользе занятий спортом и здорового, позитивного  образа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9" descr="12294288276042"/>
          <p:cNvPicPr/>
          <p:nvPr/>
        </p:nvPicPr>
        <p:blipFill>
          <a:blip r:embed="rId1"/>
          <a:stretch/>
        </p:blipFill>
        <p:spPr>
          <a:xfrm>
            <a:off x="152280" y="41911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1549_2986"/>
          <p:cNvPicPr/>
          <p:nvPr/>
        </p:nvPicPr>
        <p:blipFill>
          <a:blip r:embed="rId2"/>
          <a:stretch/>
        </p:blipFill>
        <p:spPr>
          <a:xfrm>
            <a:off x="5638680" y="13716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0035_015_zdorovyj_obraz_zhizni_shkolnik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1203480" y="6280200"/>
            <a:ext cx="67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А что выбираешь т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9" descr="d7aca78f3587"/>
          <p:cNvPicPr/>
          <p:nvPr/>
        </p:nvPicPr>
        <p:blipFill>
          <a:blip r:embed="rId2"/>
          <a:stretch/>
        </p:blipFill>
        <p:spPr>
          <a:xfrm rot="19644000">
            <a:off x="2057400" y="380520"/>
            <a:ext cx="1380960" cy="981360"/>
          </a:xfrm>
          <a:prstGeom prst="rect">
            <a:avLst/>
          </a:prstGeom>
          <a:ln w="0">
            <a:noFill/>
          </a:ln>
        </p:spPr>
      </p:pic>
      <p:pic>
        <p:nvPicPr>
          <p:cNvPr id="264" name="rojdestvo_-_ti_znaesh_tak_hochetsya_jit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074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37774_m"/>
          <p:cNvPicPr/>
          <p:nvPr/>
        </p:nvPicPr>
        <p:blipFill>
          <a:blip r:embed="rId1"/>
          <a:stretch/>
        </p:blipFill>
        <p:spPr>
          <a:xfrm>
            <a:off x="2514600" y="1905120"/>
            <a:ext cx="4143240" cy="42670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609480" y="6858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72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Слово «миссия» происходит от латыни:                       miss – послать.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Это означает, что люди живут не просто так,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мы посланы на землю с определённым заданием, которое необходимо выполнить в течение жизни.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А для этого нужно в первую очередь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иметь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Monotype Corsiva"/>
              </a:rPr>
              <a:t>крепкое здоровье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1" name="Picture 7" descr="aee36fd9ad4f343ebeb4c08bf03607ed"/>
          <p:cNvPicPr/>
          <p:nvPr/>
        </p:nvPicPr>
        <p:blipFill>
          <a:blip r:embed="rId1"/>
          <a:stretch/>
        </p:blipFill>
        <p:spPr>
          <a:xfrm>
            <a:off x="7086600" y="4800600"/>
            <a:ext cx="171468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CCCP_150dpi"/>
          <p:cNvPicPr/>
          <p:nvPr/>
        </p:nvPicPr>
        <p:blipFill>
          <a:blip r:embed="rId1"/>
          <a:stretch/>
        </p:blipFill>
        <p:spPr>
          <a:xfrm>
            <a:off x="228600" y="533520"/>
            <a:ext cx="3962520" cy="5333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4419720" y="380880"/>
            <a:ext cx="47242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Древнегреческий             философ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03030"/>
                </a:solidFill>
                <a:uFillTx/>
                <a:latin typeface="Monotype Corsiva"/>
              </a:rPr>
              <a:t>Фалес   Милетский</a:t>
            </a:r>
            <a:r>
              <a:rPr b="1" i="1" lang="ru-RU" sz="4000" spc="-1" strike="noStrike">
                <a:solidFill>
                  <a:srgbClr val="303030"/>
                </a:solidFill>
                <a:latin typeface="Monotype Corsiv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счастлив тот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кто здоров телом,  восприимчив душой и  податлив 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воспитан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5" name="Picture 5" descr="smiley-thinking-2.png (110×105)"/>
          <p:cNvPicPr/>
          <p:nvPr/>
        </p:nvPicPr>
        <p:blipFill>
          <a:blip r:embed="rId1"/>
          <a:stretch/>
        </p:blipFill>
        <p:spPr>
          <a:xfrm>
            <a:off x="152280" y="609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smiley-thinking.png (110×110)"/>
          <p:cNvPicPr/>
          <p:nvPr/>
        </p:nvPicPr>
        <p:blipFill>
          <a:blip r:embed="rId2"/>
          <a:stretch/>
        </p:blipFill>
        <p:spPr>
          <a:xfrm>
            <a:off x="7696080" y="5410080"/>
            <a:ext cx="1276560" cy="1276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2270160" y="102240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676520" y="457200"/>
            <a:ext cx="6933960" cy="71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По данным ежегодного доклада Государственного комитета РФ по делам молодеж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меньшение числа населения, ухудшение здоровья молодежи приводит к негативным тенденциям сохранения генофонда нации, что, в свою очередь, может составить угрозу для развития, модернизации стран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этой связи поднимается вопрос о необходимости выработки специальной государственной политики по формированию здорового образа жизни молодеж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ObrazGizny"/>
          <p:cNvPicPr/>
          <p:nvPr/>
        </p:nvPicPr>
        <p:blipFill>
          <a:blip r:embed="rId1"/>
          <a:stretch/>
        </p:blipFill>
        <p:spPr>
          <a:xfrm>
            <a:off x="0" y="457200"/>
            <a:ext cx="9220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914400" y="-45648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основы здорового образа жизн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ходят такие понятия как 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33520" y="1144800"/>
            <a:ext cx="815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питание здоровых привычек и навыков с раннего детства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зопасная и благоприятная окружающая сред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каз от вредных привычек- употребления алкоголя, курения, употребления наркоти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ренное пита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зически активная жизн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блюдение правил общественной и личной гигиен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8" descr="71663365_1299447200_366032"/>
          <p:cNvPicPr/>
          <p:nvPr/>
        </p:nvPicPr>
        <p:blipFill>
          <a:blip r:embed="rId1"/>
          <a:stretch/>
        </p:blipFill>
        <p:spPr>
          <a:xfrm>
            <a:off x="7086600" y="304920"/>
            <a:ext cx="1549440" cy="167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animated-gifs-justice-023"/>
          <p:cNvPicPr/>
          <p:nvPr/>
        </p:nvPicPr>
        <p:blipFill>
          <a:blip r:embed="rId2"/>
          <a:stretch/>
        </p:blipFill>
        <p:spPr>
          <a:xfrm>
            <a:off x="762120" y="2362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animated-gifs-justice-023"/>
          <p:cNvPicPr/>
          <p:nvPr/>
        </p:nvPicPr>
        <p:blipFill>
          <a:blip r:embed="rId3"/>
          <a:stretch/>
        </p:blipFill>
        <p:spPr>
          <a:xfrm>
            <a:off x="228600" y="30481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animated-gifs-justice-023"/>
          <p:cNvPicPr/>
          <p:nvPr/>
        </p:nvPicPr>
        <p:blipFill>
          <a:blip r:embed="rId4"/>
          <a:stretch/>
        </p:blipFill>
        <p:spPr>
          <a:xfrm>
            <a:off x="762120" y="3505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animated-gifs-justice-023"/>
          <p:cNvPicPr/>
          <p:nvPr/>
        </p:nvPicPr>
        <p:blipFill>
          <a:blip r:embed="rId5"/>
          <a:stretch/>
        </p:blipFill>
        <p:spPr>
          <a:xfrm>
            <a:off x="152280" y="41148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animated-gifs-justice-023"/>
          <p:cNvPicPr/>
          <p:nvPr/>
        </p:nvPicPr>
        <p:blipFill>
          <a:blip r:embed="rId6"/>
          <a:stretch/>
        </p:blipFill>
        <p:spPr>
          <a:xfrm>
            <a:off x="152280" y="5105520"/>
            <a:ext cx="495360" cy="53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animated-gifs-justice-023"/>
          <p:cNvPicPr/>
          <p:nvPr/>
        </p:nvPicPr>
        <p:blipFill>
          <a:blip r:embed="rId7"/>
          <a:stretch/>
        </p:blipFill>
        <p:spPr>
          <a:xfrm>
            <a:off x="762120" y="4572000"/>
            <a:ext cx="49536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291716560_1d1a78c561_1756778d18d3cdba0f27da485f0d974a_6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65040" y="2514600"/>
            <a:ext cx="247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е сложное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8"/>
          <p:cNvSpPr/>
          <p:nvPr/>
        </p:nvSpPr>
        <p:spPr>
          <a:xfrm rot="19939200">
            <a:off x="5394240" y="3717720"/>
            <a:ext cx="32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тказаться от вредных привычек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9"/>
          <p:cNvSpPr/>
          <p:nvPr/>
        </p:nvSpPr>
        <p:spPr>
          <a:xfrm rot="1595400">
            <a:off x="517320" y="685800"/>
            <a:ext cx="25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Алкогол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0"/>
          <p:cNvSpPr/>
          <p:nvPr/>
        </p:nvSpPr>
        <p:spPr>
          <a:xfrm rot="20149800">
            <a:off x="6400800" y="685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уре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1"/>
          <p:cNvSpPr/>
          <p:nvPr/>
        </p:nvSpPr>
        <p:spPr>
          <a:xfrm rot="20225400">
            <a:off x="411840" y="45817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аркотик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657440" y="201600"/>
            <a:ext cx="53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7" descr="79857"/>
          <p:cNvPicPr/>
          <p:nvPr/>
        </p:nvPicPr>
        <p:blipFill>
          <a:blip r:embed="rId1"/>
          <a:stretch/>
        </p:blipFill>
        <p:spPr>
          <a:xfrm>
            <a:off x="-533520" y="-60948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380880" y="21463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ществует статистика, что каждая десятая будущая мама принимает наркотики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асто в семьях наркоманов ребенок подвергается физическому насилию, что заставляет его испытывать страх и наносит огромный вред детской психи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равнение со своими сверстниками заставляет детей наркоманов чувствовать себя ущербными и никому не нужными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ти наркоманов почти всегда идут по стопам родителей - становятся наркоманами, попадают в тюрьмы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2133720" y="23976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6" descr="79857"/>
          <p:cNvPicPr/>
          <p:nvPr/>
        </p:nvPicPr>
        <p:blipFill>
          <a:blip r:embed="rId1"/>
          <a:stretch/>
        </p:blipFill>
        <p:spPr>
          <a:xfrm>
            <a:off x="-152280" y="2133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2666880" y="2057400"/>
            <a:ext cx="571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, как психоактивное вещество, оказывает пагубное влияние на функции многих систем орган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замедляет работу нервной системы мозга, поражает печень, слизистую оболочку желуд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отрицательно влияет на репродуктивную функцию как мужчин, так и женщин, что приводит к бесплодию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6-04T06:16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