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gif" ContentType="image/gif"/>
  <Override PartName="/ppt/media/image19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692-1172-4FC6-B3E3-762DBF89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DF3-B87A-4FB2-8C02-658B8EF1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492-4CF1-4FA8-9A20-3A3373D0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9F6-1605-4CB7-94B8-1AC33CB5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5BAE-9985-4CFC-B166-189DE559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7B7C-DC8E-4847-8D6C-9869E361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0301-C906-4942-B320-A081AA41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7AEC-F520-41E9-A3A8-A6485B77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95FE-890D-4D44-9424-B17025BD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2FEF-EACB-4B5D-AE6A-948F896F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D0AF-44CA-4EAA-BB11-24DD7D45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EA9-2C3F-40F3-BB60-CD387CD9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3083-F0FE-47ED-961B-129E84EE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BB60-A7E0-4AE5-9A0A-7945F986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6D4D-1781-4222-8B91-16DB36AC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D38F-1628-4229-B694-4E8E3FF2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0F0E-4703-4FFF-9B67-B8AEB41B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54DA9-845A-42A9-8AFE-021AF80A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A3EFF-8CDE-4352-A300-9749A183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BC5B7-7D67-498F-AB8F-96F10632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57DC5-0503-495D-98B8-C53BA490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371A3-CEE8-4D8E-A102-F92D0EE4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039-E9B0-41EA-A728-166E5AC9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EAFCF-8E41-4F6A-88FC-F40486F4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74647-E9D3-4C6D-B52A-DEE6BE9E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6DCC-5750-45FB-BE86-B095F00B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31E8D-56A0-479E-8805-84620A2A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8E461-F06D-4341-9B36-9E938A2A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E60B2-76D4-4DF5-8B6E-D6887A81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BEA8C-5AD8-40EA-8A1E-0FA929F2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FD368-6580-40A0-AC6B-1C4F4939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A0624-6D47-46BB-AA67-1FE83246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C81A2-370A-480F-9C8D-AE9555B7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DA7-632E-4133-9296-106322BE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65533-722C-48AC-B2BC-CDD26E17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0AE07-06A5-4EFC-BE64-BEA46C50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857C0-04A8-4750-8A1B-D039DBD1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86364-6DA3-46A7-9E79-B1AFC0A7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5DB27-FB8A-47D9-802B-31AB32DC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D4C23-2192-4158-A373-C9FC3197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3D565-A24B-4943-8642-28250496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9A9A0-1B79-4966-AF61-9E3CD940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75446-991B-4587-9425-9A1858C5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E313F-FD99-487F-892A-DD5DBF56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4FC-512E-4619-A1FF-729A39D7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1EDAD-47C5-4B1E-A047-EC295750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28B97-4AAF-4590-800E-7B71458E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08D9D-FCEC-4BAF-B3E6-ABDF6953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ACAFF-E415-4AA3-98DD-C955B8FA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22386-C3E0-4A86-9265-3FFB93D1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AA31B-3AB8-468F-A1B0-4F0CBF77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FFEE0-3328-4213-8D92-D2BE5ADE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47FA9-3929-4642-B15D-C437E70F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CC5E1-24D5-49D5-A633-7F06E6C4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1D466-13A7-4750-8784-1D9F96A5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8F2-7D9B-4205-9A2F-94A5FB7E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C373A-51A8-4391-91C5-6BD0907C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00E-AD2A-44A2-BC16-626742E6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64A-D4F0-4000-BD4F-FCEAFBB0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AFC-02EB-474D-B7C5-C83AF63F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6AA9-CF1A-4ABD-92B4-EF4D300A2700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712F-F82B-4D07-99CD-C875C198E7C9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4D6D-31C2-4CF1-B363-13DC43028804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7192-A765-49BB-B016-DA95FE46569F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3654-8754-4015-8340-A4FDF1328409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306216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«Миссия жить!»</a:t>
            </a:r>
            <a:br>
              <a:rPr sz="7200"/>
            </a:br>
            <a:br>
              <a:rPr sz="8000"/>
            </a:br>
            <a:endParaRPr b="0" lang="en-US" sz="7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19" name="Рисунок 5" descr="misli_html_m658e97f.gif"/>
          <p:cNvPicPr/>
          <p:nvPr/>
        </p:nvPicPr>
        <p:blipFill>
          <a:blip r:embed="rId1"/>
          <a:stretch/>
        </p:blipFill>
        <p:spPr>
          <a:xfrm>
            <a:off x="3276720" y="327672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133720" y="152280"/>
            <a:ext cx="464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5" descr="79857"/>
          <p:cNvPicPr/>
          <p:nvPr/>
        </p:nvPicPr>
        <p:blipFill>
          <a:blip r:embed="rId1"/>
          <a:stretch/>
        </p:blipFill>
        <p:spPr>
          <a:xfrm>
            <a:off x="-457200" y="20574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2286000" y="1860480"/>
            <a:ext cx="617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 статистике в нашей стране курят около 60% мужчин и 50-55% женщ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урение табака представляет серьезную угрозу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ым табака содержит около 3 тысяч  химических веществ, которые повреждают живые ткани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икотин – один из самых ядовитых веществ, который во время курения всасывается из легких в кровь в течение 7 секунд и проникает во все органы организ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 время курения происходит сужение сосудов головного мозга, что повышает кровяное давл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куривание одной сигареты приводит к учащению пульса на 18-20 ударов в мину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0027-027-Fotografii-ljudej-do-i-posle-togo-kak-oni-nachali-prinimat-narkot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1327878049_0_77549_c409d38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380880" y="3459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ти Белгорода против вредных привыче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57200" y="99072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Белгороде за борьбу с наркотиками и алкоголем взялись юные жители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Нет вредным привычкам!»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зали белгородские дети и нарисова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жество плакатов и комикс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 заданную тему, пытаясь тем сам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стучаться до своих же сверстник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потребляющих наркотики и алкогол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429000" y="4038480"/>
            <a:ext cx="548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етья городская выставка «Наше здоровье в наших руках» объедини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лодых художников из 33 школ Белгорода. Свыше 200 работ в экспоз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ссказывают о вреде наркотиков, табака и алкоголя, о пользе занятий спортом и здорового, позитивного  образа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9" descr="12294288276042"/>
          <p:cNvPicPr/>
          <p:nvPr/>
        </p:nvPicPr>
        <p:blipFill>
          <a:blip r:embed="rId1"/>
          <a:stretch/>
        </p:blipFill>
        <p:spPr>
          <a:xfrm>
            <a:off x="152280" y="4191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1549_2986"/>
          <p:cNvPicPr/>
          <p:nvPr/>
        </p:nvPicPr>
        <p:blipFill>
          <a:blip r:embed="rId2"/>
          <a:stretch/>
        </p:blipFill>
        <p:spPr>
          <a:xfrm>
            <a:off x="5638680" y="13716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0035_015_zdorovyj_obraz_zhizni_shkolnik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203480" y="6280200"/>
            <a:ext cx="67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А что выбираешь т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9" descr="d7aca78f3587"/>
          <p:cNvPicPr/>
          <p:nvPr/>
        </p:nvPicPr>
        <p:blipFill>
          <a:blip r:embed="rId2"/>
          <a:stretch/>
        </p:blipFill>
        <p:spPr>
          <a:xfrm rot="19644000">
            <a:off x="2057400" y="380520"/>
            <a:ext cx="1380960" cy="981360"/>
          </a:xfrm>
          <a:prstGeom prst="rect">
            <a:avLst/>
          </a:prstGeom>
          <a:ln w="0">
            <a:noFill/>
          </a:ln>
        </p:spPr>
      </p:pic>
      <p:pic>
        <p:nvPicPr>
          <p:cNvPr id="264" name="rojdestvo_-_ti_znaesh_tak_hochetsya_jit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74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37774_m"/>
          <p:cNvPicPr/>
          <p:nvPr/>
        </p:nvPicPr>
        <p:blipFill>
          <a:blip r:embed="rId1"/>
          <a:stretch/>
        </p:blipFill>
        <p:spPr>
          <a:xfrm>
            <a:off x="2514600" y="1905120"/>
            <a:ext cx="414324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72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Слово «миссия» происходит от латыни:                       miss – послать.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Это означает, что люди живут не просто так,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мы посланы на землю с определённым заданием, которое необходимо выполнить в течение жизни.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А для этого нужно в первую очередь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иметь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Monotype Corsiva"/>
              </a:rPr>
              <a:t>крепкое здоровье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Picture 7" descr="aee36fd9ad4f343ebeb4c08bf03607ed"/>
          <p:cNvPicPr/>
          <p:nvPr/>
        </p:nvPicPr>
        <p:blipFill>
          <a:blip r:embed="rId1"/>
          <a:stretch/>
        </p:blipFill>
        <p:spPr>
          <a:xfrm>
            <a:off x="7086600" y="4800600"/>
            <a:ext cx="17146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CCCP_150dpi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5333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419720" y="380880"/>
            <a:ext cx="47242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Древнегреческий             философ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03030"/>
                </a:solidFill>
                <a:uFillTx/>
                <a:latin typeface="Monotype Corsiva"/>
              </a:rPr>
              <a:t>Фалес   Милетский</a:t>
            </a:r>
            <a:r>
              <a:rPr b="1" i="1" lang="ru-RU" sz="4000" spc="-1" strike="noStrike">
                <a:solidFill>
                  <a:srgbClr val="303030"/>
                </a:solidFill>
                <a:latin typeface="Monotype Corsiv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счастлив тот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кто здоров телом,  восприимчив душой и  податлив 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воспитан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5" name="Picture 5" descr="smiley-thinking-2.png (110×105)"/>
          <p:cNvPicPr/>
          <p:nvPr/>
        </p:nvPicPr>
        <p:blipFill>
          <a:blip r:embed="rId1"/>
          <a:stretch/>
        </p:blipFill>
        <p:spPr>
          <a:xfrm>
            <a:off x="15228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smiley-thinking.png (110×110)"/>
          <p:cNvPicPr/>
          <p:nvPr/>
        </p:nvPicPr>
        <p:blipFill>
          <a:blip r:embed="rId2"/>
          <a:stretch/>
        </p:blipFill>
        <p:spPr>
          <a:xfrm>
            <a:off x="7696080" y="5410080"/>
            <a:ext cx="1276560" cy="1276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2270160" y="102240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676520" y="457200"/>
            <a:ext cx="693396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По данным ежегодного доклада Государственного комитета РФ по делам молодеж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меньшение числа населения, ухудшение здоровья молодежи приводит к негативным тенденциям сохранения генофонда нации, что, в свою очередь, может составить угрозу для развития, модернизации стр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этой связи поднимается вопрос о необходимости выработки специальной государственной политики по формированию здорового образа жизни молодеж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ObrazGizny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914400" y="-4564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основы здорового образа жизн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ходят такие понятия как 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33520" y="114480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итание здоровых привычек и навыков с раннего детства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опасная и благоприятная окружающая сред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аз от вредных привычек- употребления алкоголя, курения, употребления наркот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ренное пита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зически активная жизн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блюдение правил общественной и личной гигиен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8" descr="71663365_1299447200_366032"/>
          <p:cNvPicPr/>
          <p:nvPr/>
        </p:nvPicPr>
        <p:blipFill>
          <a:blip r:embed="rId1"/>
          <a:stretch/>
        </p:blipFill>
        <p:spPr>
          <a:xfrm>
            <a:off x="7086600" y="304920"/>
            <a:ext cx="154944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nimated-gifs-justice-023"/>
          <p:cNvPicPr/>
          <p:nvPr/>
        </p:nvPicPr>
        <p:blipFill>
          <a:blip r:embed="rId2"/>
          <a:stretch/>
        </p:blipFill>
        <p:spPr>
          <a:xfrm>
            <a:off x="762120" y="2362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animated-gifs-justice-023"/>
          <p:cNvPicPr/>
          <p:nvPr/>
        </p:nvPicPr>
        <p:blipFill>
          <a:blip r:embed="rId3"/>
          <a:stretch/>
        </p:blipFill>
        <p:spPr>
          <a:xfrm>
            <a:off x="228600" y="30481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animated-gifs-justice-023"/>
          <p:cNvPicPr/>
          <p:nvPr/>
        </p:nvPicPr>
        <p:blipFill>
          <a:blip r:embed="rId4"/>
          <a:stretch/>
        </p:blipFill>
        <p:spPr>
          <a:xfrm>
            <a:off x="762120" y="3505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animated-gifs-justice-023"/>
          <p:cNvPicPr/>
          <p:nvPr/>
        </p:nvPicPr>
        <p:blipFill>
          <a:blip r:embed="rId5"/>
          <a:stretch/>
        </p:blipFill>
        <p:spPr>
          <a:xfrm>
            <a:off x="152280" y="41148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animated-gifs-justice-023"/>
          <p:cNvPicPr/>
          <p:nvPr/>
        </p:nvPicPr>
        <p:blipFill>
          <a:blip r:embed="rId6"/>
          <a:stretch/>
        </p:blipFill>
        <p:spPr>
          <a:xfrm>
            <a:off x="152280" y="51055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animated-gifs-justice-023"/>
          <p:cNvPicPr/>
          <p:nvPr/>
        </p:nvPicPr>
        <p:blipFill>
          <a:blip r:embed="rId7"/>
          <a:stretch/>
        </p:blipFill>
        <p:spPr>
          <a:xfrm>
            <a:off x="762120" y="4572000"/>
            <a:ext cx="49536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291716560_1d1a78c561_1756778d18d3cdba0f27da485f0d974a_6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65040" y="2514600"/>
            <a:ext cx="24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е сложно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 rot="19939200">
            <a:off x="5394240" y="3717720"/>
            <a:ext cx="32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тказаться от вредных привыче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 rot="1595400">
            <a:off x="517320" y="685800"/>
            <a:ext cx="25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Алкогол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 rot="20149800">
            <a:off x="6400800" y="685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уре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 rot="20225400">
            <a:off x="411840" y="45817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ркотик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657440" y="201600"/>
            <a:ext cx="53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7" descr="79857"/>
          <p:cNvPicPr/>
          <p:nvPr/>
        </p:nvPicPr>
        <p:blipFill>
          <a:blip r:embed="rId1"/>
          <a:stretch/>
        </p:blipFill>
        <p:spPr>
          <a:xfrm>
            <a:off x="-533520" y="-60948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80880" y="21463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ществует статистика, что каждая десятая будущая мама принимает наркотики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асто в семьях наркоманов ребенок подвергается физическому насилию, что заставляет его испытывать страх и наносит огромный вред детской психи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равнение со своими сверстниками заставляет детей наркоманов чувствовать себя ущербными и никому не нужными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ти наркоманов почти всегда идут по стопам родителей - становятся наркоманами, попадают в тюрьмы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2133720" y="2397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6" descr="79857"/>
          <p:cNvPicPr/>
          <p:nvPr/>
        </p:nvPicPr>
        <p:blipFill>
          <a:blip r:embed="rId1"/>
          <a:stretch/>
        </p:blipFill>
        <p:spPr>
          <a:xfrm>
            <a:off x="-152280" y="2133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2666880" y="205740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, как психоактивное вещество, оказывает пагубное влияние на функции многих систем орган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замедляет работу нервной системы мозга, поражает печень, слизистую оболочку желуд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отрицательно влияет на репродуктивную функцию как мужчин, так и женщин, что приводит к бесплодию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6-04T06:16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