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9.gif" ContentType="image/gif"/>
  <Override PartName="/ppt/media/image19.png" ContentType="image/png"/>
  <Override PartName="/ppt/media/image17.gif" ContentType="image/gif"/>
  <Override PartName="/ppt/media/image16.jpeg" ContentType="image/jpeg"/>
  <Override PartName="/ppt/media/image15.jpeg" ContentType="image/jpeg"/>
  <Override PartName="/ppt/media/image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3.gif" ContentType="image/gi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128-0697-4C1F-AA08-CAF16E1B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D2A-5C27-488E-9E8F-75A35A31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ABED-1E4F-4348-9364-6C825EDA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2210-7AB2-4CC8-967A-880B6C57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FCEB-7281-4CA4-A923-7BA8CCE2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564A-63FA-4E5C-B7AF-A530B57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89E9-98F7-44FD-9574-24CBD1D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C3E1-9081-4C6A-A362-E7ADC978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34CD-693A-4F3D-9A3D-E8598F6C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E3E-516A-4363-BD93-995EA83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140A-13F9-435B-95D5-403DE54E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41E-0EAD-4102-9384-45AB9BF6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33F2-4F24-4969-AA20-D3AE1E0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1B1E-535B-455D-8FEC-46F012E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5A7F-730B-453F-9E7B-D3CBF9CF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37C5-31EA-4F6D-8B92-3524F118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6996-2D27-4CB8-B896-B4A457E4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8C69-781F-4A67-A29A-9F7F9D2C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56D2-4624-452A-8CB9-F491E4A5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6462-341C-4748-9450-6D8D5C70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5EAC-9CF0-431B-B8A2-E6F753DB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637C-3ED9-4A29-8D39-D1771DDE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DF6B-E3A5-4A87-995D-097D5E5F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6908-87B3-44F0-83D6-5BB4248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51D28-658B-43B2-BB4E-84F7A3D9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7F2F8-13B8-4AE5-8027-2A9CE386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2FF46-7DD6-4EF2-9043-C1B00B9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8348A-B00A-49C8-A7FA-8FC2C888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B672-1DF4-49F9-93D7-1A4E27A1E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7370-0E14-4D9B-8BE6-F1FF8B15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5324A-3149-4BD0-A293-DA4ABA06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E1DB9-7E30-4CCF-A97D-645B865C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94AD-2751-4BB6-BBD4-22C21491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AF1-1265-4C3C-96EF-3171E790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939FB-383B-44F8-846E-092A3FB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A5E6-AC02-4CD6-9DF1-6B865C16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769B-6886-4E2B-8199-C680A412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6C3A9-6A93-4133-98B1-858C7990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6017-F6F4-46E0-A9E8-78385D47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7C75B-CA88-48F7-B89C-F2849C7B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69BC-F746-47BE-A2C7-36FE97C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61509-2E2E-4196-A3C7-D7653803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32325-55F1-4270-AA1E-847F6A7E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2FCA3-A28E-486E-9082-7C917B1B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376-1289-4DE1-80C8-8BD23C54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1AAF6-1FDB-484D-B5B1-278120EC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B3630-5D46-4D41-BB0F-ACD48635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35C4C-4502-4E02-B4DC-ABEE75F9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54647-ED32-4F05-9953-8EF14ED5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C7F47-6ACD-42DE-A58E-0D9B4BF9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38887-7D84-4B25-BE4A-50647393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E0F40-2CF2-40BF-89FC-225583D4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D82DC-B06D-4694-887A-CB5C7EA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34F8-7210-424F-B91D-806FBC6E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CCF93-8EF6-432E-A143-C3438A6FF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AE33-D716-4415-A33B-DEA61234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1C2A2-B4DB-4189-B485-A724612A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882-DF99-422D-B46B-B20F3E5D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B50-CB92-4769-BA91-DF5C515C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C87-2B52-408E-BBD1-13818F86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94C2-ACDB-47A1-8DE1-9F7AF52674B1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E41C-DFB5-4774-B55E-04A838740D56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9520-44EF-49AE-B2F9-C8455A6A80D7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C44A-7332-45E6-9866-F420BC2A4610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F5AC-FACD-4D7C-B65E-82BECD97101A}" type="slidenum">
              <a:rPr b="0" lang="ru-RU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520" y="306216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Monotype Corsiva"/>
              </a:rPr>
              <a:t>«Миссия жить!»</a:t>
            </a:r>
            <a:br>
              <a:rPr sz="7200"/>
            </a:br>
            <a:br>
              <a:rPr sz="8000"/>
            </a:br>
            <a:endParaRPr b="0" lang="en-US" sz="72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19" name="Рисунок 5" descr="misli_html_m658e97f.gif"/>
          <p:cNvPicPr/>
          <p:nvPr/>
        </p:nvPicPr>
        <p:blipFill>
          <a:blip r:embed="rId1"/>
          <a:stretch/>
        </p:blipFill>
        <p:spPr>
          <a:xfrm>
            <a:off x="3276720" y="3276720"/>
            <a:ext cx="267012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"/>
          <p:cNvSpPr/>
          <p:nvPr/>
        </p:nvSpPr>
        <p:spPr>
          <a:xfrm>
            <a:off x="2133720" y="152280"/>
            <a:ext cx="464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2" name="Picture 5" descr="79857"/>
          <p:cNvPicPr/>
          <p:nvPr/>
        </p:nvPicPr>
        <p:blipFill>
          <a:blip r:embed="rId1"/>
          <a:stretch/>
        </p:blipFill>
        <p:spPr>
          <a:xfrm>
            <a:off x="-457200" y="205740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2286000" y="1860480"/>
            <a:ext cx="617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 статистике в нашей стране курят около 60% мужчин и 50-55% женщ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Курение табака представляет серьезную угрозу для здоровья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ым табака содержит около 3 тысяч  химических веществ, которые повреждают живые ткани челове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Никотин – один из самых ядовитых веществ, который во время курения всасывается из легких в кровь в течение 7 секунд и проникает во все органы организм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 время курения происходит сужение сосудов головного мозга, что повышает кровяное давл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ыкуривание одной сигареты приводит к учащению пульса на 18-20 ударов в минут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" descr="0027-027-Fotografii-ljudej-do-i-posle-togo-kak-oni-nachali-prinimat-narkoti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1327878049_0_77549_c409d38f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5"/>
          <p:cNvSpPr/>
          <p:nvPr/>
        </p:nvSpPr>
        <p:spPr>
          <a:xfrm>
            <a:off x="380880" y="34596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Дети Белгорода против вредных привычек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57200" y="990720"/>
            <a:ext cx="8321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В Белгороде за борьбу с наркотиками и алкоголем взялись юные жители гор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«Нет вредным привычкам!»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сказали белгородские дети и нарисовал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ножество плакатов и комиксо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на заданную тему, пытаясь тем самы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достучаться до своих же сверстник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потребляющих наркотики и алкогол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3429000" y="4038480"/>
            <a:ext cx="5486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Третья городская выставка «Наше здоровье в наших руках» объединил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олодых художников из 33 школ Белгорода. Свыше 200 работ в экспози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рассказывают о вреде наркотиков, табака и алкоголя, о пользе занятий спортом и здорового, позитивного  образа жиз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9" name="Picture 9" descr="12294288276042"/>
          <p:cNvPicPr/>
          <p:nvPr/>
        </p:nvPicPr>
        <p:blipFill>
          <a:blip r:embed="rId1"/>
          <a:stretch/>
        </p:blipFill>
        <p:spPr>
          <a:xfrm>
            <a:off x="152280" y="419112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1" descr="1549_2986"/>
          <p:cNvPicPr/>
          <p:nvPr/>
        </p:nvPicPr>
        <p:blipFill>
          <a:blip r:embed="rId2"/>
          <a:stretch/>
        </p:blipFill>
        <p:spPr>
          <a:xfrm>
            <a:off x="5638680" y="1371600"/>
            <a:ext cx="2743200" cy="21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0035_015_zdorovyj_obraz_zhizni_shkolnika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5"/>
          <p:cNvSpPr/>
          <p:nvPr/>
        </p:nvSpPr>
        <p:spPr>
          <a:xfrm>
            <a:off x="1203480" y="6280200"/>
            <a:ext cx="672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А что выбираешь ты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9" descr="d7aca78f3587"/>
          <p:cNvPicPr/>
          <p:nvPr/>
        </p:nvPicPr>
        <p:blipFill>
          <a:blip r:embed="rId2"/>
          <a:stretch/>
        </p:blipFill>
        <p:spPr>
          <a:xfrm rot="19644000">
            <a:off x="2057400" y="380520"/>
            <a:ext cx="1380960" cy="981360"/>
          </a:xfrm>
          <a:prstGeom prst="rect">
            <a:avLst/>
          </a:prstGeom>
          <a:ln w="0">
            <a:noFill/>
          </a:ln>
        </p:spPr>
      </p:pic>
      <p:pic>
        <p:nvPicPr>
          <p:cNvPr id="264" name="rojdestvo_-_ti_znaesh_tak_hochetsya_jit.mp3" descr=""/>
          <p:cNvPicPr/>
          <p:nvPr/>
        </p:nvPicPr>
        <p:blipFill>
          <a:blip r:embed="rId3"/>
          <a:stretch/>
        </p:blipFill>
        <p:spPr>
          <a:xfrm>
            <a:off x="86868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074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5" descr="37774_m"/>
          <p:cNvPicPr/>
          <p:nvPr/>
        </p:nvPicPr>
        <p:blipFill>
          <a:blip r:embed="rId1"/>
          <a:stretch/>
        </p:blipFill>
        <p:spPr>
          <a:xfrm>
            <a:off x="2514600" y="1905120"/>
            <a:ext cx="4143240" cy="42670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6"/>
          <p:cNvSpPr/>
          <p:nvPr/>
        </p:nvSpPr>
        <p:spPr>
          <a:xfrm>
            <a:off x="609480" y="6858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472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Слово «миссия» происходит от латыни:                       miss – послать.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Это означает, что люди живут не просто так, </a:t>
            </a:r>
            <a:br>
              <a:rPr sz="3600"/>
            </a:br>
            <a:r>
              <a:rPr b="1" i="1" lang="ru-RU" sz="3600" spc="-1" strike="noStrike">
                <a:solidFill>
                  <a:srgbClr val="262626"/>
                </a:solidFill>
                <a:latin typeface="Monotype Corsiva"/>
              </a:rPr>
              <a:t>мы посланы на землю с определённым заданием, которое необходимо выполнить в течение жизни.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А для этого нужно в первую очередь </a:t>
            </a:r>
            <a:br>
              <a:rPr sz="3600"/>
            </a:br>
            <a:r>
              <a:rPr b="1" lang="ru-RU" sz="3600" spc="-1" strike="noStrike">
                <a:solidFill>
                  <a:srgbClr val="262626"/>
                </a:solidFill>
                <a:latin typeface="Monotype Corsiva"/>
              </a:rPr>
              <a:t>иметь </a:t>
            </a:r>
            <a:br>
              <a:rPr sz="3600"/>
            </a:br>
            <a:r>
              <a:rPr b="1" lang="ru-RU" sz="3600" spc="-1" strike="noStrike" u="sng">
                <a:solidFill>
                  <a:srgbClr val="262626"/>
                </a:solidFill>
                <a:uFillTx/>
                <a:latin typeface="Monotype Corsiva"/>
              </a:rPr>
              <a:t>крепкое здоровье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1" name="Picture 7" descr="aee36fd9ad4f343ebeb4c08bf03607ed"/>
          <p:cNvPicPr/>
          <p:nvPr/>
        </p:nvPicPr>
        <p:blipFill>
          <a:blip r:embed="rId1"/>
          <a:stretch/>
        </p:blipFill>
        <p:spPr>
          <a:xfrm>
            <a:off x="7086600" y="4800600"/>
            <a:ext cx="1714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CCCP_150dpi"/>
          <p:cNvPicPr/>
          <p:nvPr/>
        </p:nvPicPr>
        <p:blipFill>
          <a:blip r:embed="rId1"/>
          <a:stretch/>
        </p:blipFill>
        <p:spPr>
          <a:xfrm>
            <a:off x="228600" y="533520"/>
            <a:ext cx="3962520" cy="5333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4419720" y="380880"/>
            <a:ext cx="47242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Древнегреческий             философ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303030"/>
                </a:solidFill>
                <a:uFillTx/>
                <a:latin typeface="Monotype Corsiva"/>
              </a:rPr>
              <a:t>Фалес   Милетский</a:t>
            </a:r>
            <a:r>
              <a:rPr b="1" i="1" lang="ru-RU" sz="4000" spc="-1" strike="noStrike">
                <a:solidFill>
                  <a:srgbClr val="303030"/>
                </a:solidFill>
                <a:latin typeface="Monotype Corsiv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счастлив тот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кто здоров телом,  восприимчив душой и  податлив н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     </a:t>
            </a:r>
            <a:r>
              <a:rPr b="1" lang="ru-RU" sz="4000" spc="-1" strike="noStrike">
                <a:solidFill>
                  <a:srgbClr val="303030"/>
                </a:solidFill>
                <a:latin typeface="Monotype Corsiva"/>
              </a:rPr>
              <a:t>воспитани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262626"/>
              </a:solidFill>
              <a:latin typeface="Impact"/>
            </a:endParaRPr>
          </a:p>
        </p:txBody>
      </p:sp>
      <p:pic>
        <p:nvPicPr>
          <p:cNvPr id="225" name="Picture 5" descr="smiley-thinking-2.png (110×105)"/>
          <p:cNvPicPr/>
          <p:nvPr/>
        </p:nvPicPr>
        <p:blipFill>
          <a:blip r:embed="rId1"/>
          <a:stretch/>
        </p:blipFill>
        <p:spPr>
          <a:xfrm>
            <a:off x="152280" y="609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smiley-thinking.png (110×110)"/>
          <p:cNvPicPr/>
          <p:nvPr/>
        </p:nvPicPr>
        <p:blipFill>
          <a:blip r:embed="rId2"/>
          <a:stretch/>
        </p:blipFill>
        <p:spPr>
          <a:xfrm>
            <a:off x="7696080" y="5410080"/>
            <a:ext cx="1276560" cy="12765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2270160" y="1022400"/>
            <a:ext cx="291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1676520" y="457200"/>
            <a:ext cx="6933960" cy="71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По данным ежегодного доклада Государственного комитета РФ по делам молодежи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меньшение числа населения, ухудшение здоровья молодежи приводит к негативным тенденциям сохранения генофонда нации, что, в свою очередь, может составить угрозу для развития, модернизации стран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этой связи поднимается вопрос о необходимости выработки специальной государственной политики по формированию здорового образа жизни молодеж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ObrazGizny"/>
          <p:cNvPicPr/>
          <p:nvPr/>
        </p:nvPicPr>
        <p:blipFill>
          <a:blip r:embed="rId1"/>
          <a:stretch/>
        </p:blipFill>
        <p:spPr>
          <a:xfrm>
            <a:off x="0" y="457200"/>
            <a:ext cx="9220320" cy="6019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914400" y="-456480"/>
            <a:ext cx="5943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i="1" lang="ru-RU" sz="3600" spc="-1" strike="noStrike">
                <a:solidFill>
                  <a:srgbClr val="000000"/>
                </a:solidFill>
                <a:latin typeface="Monotype Corsiva"/>
              </a:rPr>
              <a:t>основы здорового образа жизн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ходят такие понятия как 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33520" y="1144800"/>
            <a:ext cx="8153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оспитание здоровых привычек и навыков с раннего детства 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езопасная и благоприятная окружающая сред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каз от вредных привычек- употребления алкоголя, курения, употребления наркотиков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меренное питание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 активная жизн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блюдение правил общественной и личной гигиен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8" descr="71663365_1299447200_366032"/>
          <p:cNvPicPr/>
          <p:nvPr/>
        </p:nvPicPr>
        <p:blipFill>
          <a:blip r:embed="rId1"/>
          <a:stretch/>
        </p:blipFill>
        <p:spPr>
          <a:xfrm>
            <a:off x="7086600" y="304920"/>
            <a:ext cx="1549440" cy="1676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animated-gifs-justice-023"/>
          <p:cNvPicPr/>
          <p:nvPr/>
        </p:nvPicPr>
        <p:blipFill>
          <a:blip r:embed="rId2"/>
          <a:stretch/>
        </p:blipFill>
        <p:spPr>
          <a:xfrm>
            <a:off x="762120" y="2362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animated-gifs-justice-023"/>
          <p:cNvPicPr/>
          <p:nvPr/>
        </p:nvPicPr>
        <p:blipFill>
          <a:blip r:embed="rId3"/>
          <a:stretch/>
        </p:blipFill>
        <p:spPr>
          <a:xfrm>
            <a:off x="228600" y="30481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animated-gifs-justice-023"/>
          <p:cNvPicPr/>
          <p:nvPr/>
        </p:nvPicPr>
        <p:blipFill>
          <a:blip r:embed="rId4"/>
          <a:stretch/>
        </p:blipFill>
        <p:spPr>
          <a:xfrm>
            <a:off x="762120" y="3505320"/>
            <a:ext cx="423720" cy="457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animated-gifs-justice-023"/>
          <p:cNvPicPr/>
          <p:nvPr/>
        </p:nvPicPr>
        <p:blipFill>
          <a:blip r:embed="rId5"/>
          <a:stretch/>
        </p:blipFill>
        <p:spPr>
          <a:xfrm>
            <a:off x="152280" y="4114800"/>
            <a:ext cx="4953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3" descr="animated-gifs-justice-023"/>
          <p:cNvPicPr/>
          <p:nvPr/>
        </p:nvPicPr>
        <p:blipFill>
          <a:blip r:embed="rId6"/>
          <a:stretch/>
        </p:blipFill>
        <p:spPr>
          <a:xfrm>
            <a:off x="152280" y="5105520"/>
            <a:ext cx="495360" cy="5331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4" descr="animated-gifs-justice-023"/>
          <p:cNvPicPr/>
          <p:nvPr/>
        </p:nvPicPr>
        <p:blipFill>
          <a:blip r:embed="rId7"/>
          <a:stretch/>
        </p:blipFill>
        <p:spPr>
          <a:xfrm>
            <a:off x="762120" y="4572000"/>
            <a:ext cx="49536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5" descr="291716560_1d1a78c561_1756778d18d3cdba0f27da485f0d974a_6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365040" y="2514600"/>
            <a:ext cx="247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Самое сложное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Text Box 8"/>
          <p:cNvSpPr/>
          <p:nvPr/>
        </p:nvSpPr>
        <p:spPr>
          <a:xfrm rot="19939200">
            <a:off x="5394240" y="3717720"/>
            <a:ext cx="32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отказаться от вредных привычек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9"/>
          <p:cNvSpPr/>
          <p:nvPr/>
        </p:nvSpPr>
        <p:spPr>
          <a:xfrm rot="1595400">
            <a:off x="517320" y="685800"/>
            <a:ext cx="25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лкоголь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10"/>
          <p:cNvSpPr/>
          <p:nvPr/>
        </p:nvSpPr>
        <p:spPr>
          <a:xfrm rot="20149800">
            <a:off x="6400800" y="6854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урени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Text Box 11"/>
          <p:cNvSpPr/>
          <p:nvPr/>
        </p:nvSpPr>
        <p:spPr>
          <a:xfrm rot="20225400">
            <a:off x="411840" y="45817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Наркотики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4"/>
          <p:cNvSpPr/>
          <p:nvPr/>
        </p:nvSpPr>
        <p:spPr>
          <a:xfrm>
            <a:off x="1657440" y="201600"/>
            <a:ext cx="5352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7" descr="79857"/>
          <p:cNvPicPr/>
          <p:nvPr/>
        </p:nvPicPr>
        <p:blipFill>
          <a:blip r:embed="rId1"/>
          <a:stretch/>
        </p:blipFill>
        <p:spPr>
          <a:xfrm>
            <a:off x="-533520" y="-60948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8"/>
          <p:cNvSpPr/>
          <p:nvPr/>
        </p:nvSpPr>
        <p:spPr>
          <a:xfrm>
            <a:off x="380880" y="214632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уществует статистика, что каждая десятая будущая мама принимает наркотики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Часто в семьях наркоманов ребенок подвергается физическому насилию, что заставляет его испытывать страх и наносит огромный вред детской психик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равнение со своими сверстниками заставляет детей наркоманов чувствовать себя ущербными и никому не нужными.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ети наркоманов почти всегда идут по стопам родителей - становятся наркоманами, попадают в тюрьм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"/>
          <p:cNvSpPr/>
          <p:nvPr/>
        </p:nvSpPr>
        <p:spPr>
          <a:xfrm>
            <a:off x="2133720" y="23976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Только задумайтесь!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6" descr="79857"/>
          <p:cNvPicPr/>
          <p:nvPr/>
        </p:nvPicPr>
        <p:blipFill>
          <a:blip r:embed="rId1"/>
          <a:stretch/>
        </p:blipFill>
        <p:spPr>
          <a:xfrm>
            <a:off x="-152280" y="21337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2666880" y="2057400"/>
            <a:ext cx="5715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, как психоактивное вещество, оказывает пагубное влияние на функции многих систем организм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замедляет работу нервной системы мозга, поражает печень, слизистую оболочку желуд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Алкоголь отрицательно влияет на репродуктивную функцию как мужчин, так и женщин, что приводит к бесплодию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6-04T06:16:2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