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9.gif" ContentType="image/gif"/>
  <Override PartName="/ppt/media/image19.png" ContentType="image/png"/>
  <Override PartName="/ppt/media/image17.gif" ContentType="image/gif"/>
  <Override PartName="/ppt/media/image16.jpeg" ContentType="image/jpeg"/>
  <Override PartName="/ppt/media/image15.jpeg" ContentType="image/jpeg"/>
  <Override PartName="/ppt/media/image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3.gif" ContentType="image/gif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5CDF-7A35-46BC-AD44-CAFC035A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14F-C6B9-49F0-A48E-19D467E4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4412-FCE4-4716-856A-C593B118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F7E-42C3-4559-963F-B51F8F22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5B61-C063-457E-8EBF-07195CBA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9375-ED0B-4F2E-8489-E80F82BC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CBCA-64D2-4BD5-ABC2-8E19EBEB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18B4-38C3-4B1A-9B3F-189DAC07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33A0-05C7-4D1D-A243-F0C07776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4622-4468-412D-97A3-6BF61CB8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8A8A-6F22-4C20-AF46-A0F34251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88D-B5C0-4011-BBC4-3516DD81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33F7-67F7-43E9-8231-5DF296EA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131D-210C-4864-83D1-41693078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F14A-8CBE-43EB-B3D4-6F23CD55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0949-2FBB-4691-A521-3445FFE7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5C0F-26EC-4666-BA41-3A4045A2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6AEB2-21F2-4BB0-8F64-37CD592E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A2687-73AD-403B-9AAF-4BE046B4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F1081-7EF4-4EDE-9FD4-02A472EF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F4EBD-484A-4D73-9616-AB2C1AA5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69CB7-1FED-4173-9873-A701D383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721-2786-4F9D-9186-3684C355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0C50A-4CFA-43EE-93E1-0E711106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DF5B8-9799-44C4-AB5C-C1D4E067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6614B-9C76-4BD4-B18B-3DF1B2AB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F7C40-096F-4145-8327-B5500512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C68C0-BFA4-4EA9-B96A-7B5B899D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D87CA-E489-457C-BEDF-532E4468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E8019-A153-4435-A6C1-85AFC9D5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25F0B-85C9-4436-B8EF-E496A9D6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36BD2-2569-4724-B1B9-71392194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5960B-F306-4105-AAD5-96C5F2DA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617-2DBE-4306-A2D2-23CDB289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50843-1DB2-4ED8-B0D4-D0533561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66A75-07EF-42D2-AD20-44F42A39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2175C-FF27-40B5-8876-E1752A28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3FAFC-C17D-481F-82AC-521B5957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EEEF9-13DC-4A78-95B2-BEA24C3E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CC864-0581-4A2D-8DDE-12E2E03F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33C53-0E2E-40B0-91F1-7AE238B8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3F47E-6A22-47D0-AE11-64E903CB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156F5-B124-462E-9E54-D3D9717D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C0D5A-C2CF-4162-B97D-AC5280E0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0C42-9AF9-4F60-B51D-20D89575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E67C2-C3C0-4057-A0D3-8351CF77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12585-22EA-462A-8404-CCBCEDC9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9CF30-F234-493E-8761-13DB6A19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CF595-3CDD-4737-8945-BD2BF47A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1906F-E276-4541-A779-3046F04D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812DD-9DC4-4A46-8D27-6E24D3B4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6CF56-168A-43B4-B47D-91E1E5A0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A17C5-65CF-4270-A6F5-16F5E8F5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093A0-74F1-4DD6-87E2-6CE93774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795AA-5DF2-47CE-837D-AE5BFCAD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EE04-35B5-4CC3-B4A0-EF712116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358E2-CE07-4208-AE49-F4A06A4F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F713-6866-44CF-B561-C7D4C235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647C-0851-4D0D-A5CD-06218BBD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B2F-CC52-4960-9428-686D7E70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5BFC-E734-4648-8CEF-5A5ABD92D175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1FDE-723A-4E4C-9D6D-0EF6EBC634B8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7392-0868-4ED1-BB1A-56211295D291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0010-0F01-46FE-B5A0-881623F4BCFB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D51E-02A6-4919-BD4D-B7EA979C6A8D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520" y="306216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«Миссия жить!»</a:t>
            </a:r>
            <a:br>
              <a:rPr sz="7200"/>
            </a:br>
            <a:br>
              <a:rPr sz="8000"/>
            </a:br>
            <a:endParaRPr b="0" lang="en-US" sz="72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19" name="Рисунок 5" descr="misli_html_m658e97f.gif"/>
          <p:cNvPicPr/>
          <p:nvPr/>
        </p:nvPicPr>
        <p:blipFill>
          <a:blip r:embed="rId1"/>
          <a:stretch/>
        </p:blipFill>
        <p:spPr>
          <a:xfrm>
            <a:off x="3276720" y="3276720"/>
            <a:ext cx="26701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2133720" y="152280"/>
            <a:ext cx="4647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Picture 5" descr="79857"/>
          <p:cNvPicPr/>
          <p:nvPr/>
        </p:nvPicPr>
        <p:blipFill>
          <a:blip r:embed="rId1"/>
          <a:stretch/>
        </p:blipFill>
        <p:spPr>
          <a:xfrm>
            <a:off x="-457200" y="20574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2286000" y="1860480"/>
            <a:ext cx="6172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 статистике в нашей стране курят около 60% мужчин и 50-55% женщ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урение табака представляет серьезную угрозу для здоровья челов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ым табака содержит около 3 тысяч  химических веществ, которые повреждают живые ткани челове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икотин – один из самых ядовитых веществ, который во время курения всасывается из легких в кровь в течение 7 секунд и проникает во все органы организм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о время курения происходит сужение сосудов головного мозга, что повышает кровяное давл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ыкуривание одной сигареты приводит к учащению пульса на 18-20 ударов в минут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0027-027-Fotografii-ljudej-do-i-posle-togo-kak-oni-nachali-prinimat-narkoti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1327878049_0_77549_c409d38f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5"/>
          <p:cNvSpPr/>
          <p:nvPr/>
        </p:nvSpPr>
        <p:spPr>
          <a:xfrm>
            <a:off x="380880" y="34596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Дети Белгорода против вредных привыче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57200" y="990720"/>
            <a:ext cx="832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Белгороде за борьбу с наркотиками и алкоголем взялись юные жители гор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«Нет вредным привычкам!»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казали белгородские дети и нарисовал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ножество плакатов и комиксо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 заданную тему, пытаясь тем самы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стучаться до своих же сверстников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потребляющих наркотики и алкогол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429000" y="4038480"/>
            <a:ext cx="5486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етья городская выставка «Наше здоровье в наших руках» объедини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олодых художников из 33 школ Белгорода. Свыше 200 работ в экспози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ссказывают о вреде наркотиков, табака и алкоголя, о пользе занятий спортом и здорового, позитивного  образа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9" descr="12294288276042"/>
          <p:cNvPicPr/>
          <p:nvPr/>
        </p:nvPicPr>
        <p:blipFill>
          <a:blip r:embed="rId1"/>
          <a:stretch/>
        </p:blipFill>
        <p:spPr>
          <a:xfrm>
            <a:off x="152280" y="419112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1549_2986"/>
          <p:cNvPicPr/>
          <p:nvPr/>
        </p:nvPicPr>
        <p:blipFill>
          <a:blip r:embed="rId2"/>
          <a:stretch/>
        </p:blipFill>
        <p:spPr>
          <a:xfrm>
            <a:off x="5638680" y="13716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0035_015_zdorovyj_obraz_zhizni_shkolnika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1203480" y="6280200"/>
            <a:ext cx="67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А что выбираешь т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9" descr="d7aca78f3587"/>
          <p:cNvPicPr/>
          <p:nvPr/>
        </p:nvPicPr>
        <p:blipFill>
          <a:blip r:embed="rId2"/>
          <a:stretch/>
        </p:blipFill>
        <p:spPr>
          <a:xfrm rot="19644000">
            <a:off x="2057400" y="380520"/>
            <a:ext cx="1380960" cy="981360"/>
          </a:xfrm>
          <a:prstGeom prst="rect">
            <a:avLst/>
          </a:prstGeom>
          <a:ln w="0">
            <a:noFill/>
          </a:ln>
        </p:spPr>
      </p:pic>
      <p:pic>
        <p:nvPicPr>
          <p:cNvPr id="264" name="rojdestvo_-_ti_znaesh_tak_hochetsya_jit.mp3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074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37774_m"/>
          <p:cNvPicPr/>
          <p:nvPr/>
        </p:nvPicPr>
        <p:blipFill>
          <a:blip r:embed="rId1"/>
          <a:stretch/>
        </p:blipFill>
        <p:spPr>
          <a:xfrm>
            <a:off x="2514600" y="1905120"/>
            <a:ext cx="4143240" cy="42670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609480" y="6858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472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Слово «миссия» происходит от латыни:                       miss – послать.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Это означает, что люди живут не просто так,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мы посланы на землю с определённым заданием, которое необходимо выполнить в течение жизни.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А для этого нужно в первую очередь 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иметь </a:t>
            </a:r>
            <a:br>
              <a:rPr sz="3600"/>
            </a:br>
            <a:r>
              <a:rPr b="1" lang="ru-RU" sz="3600" spc="-1" strike="noStrike" u="sng">
                <a:solidFill>
                  <a:srgbClr val="262626"/>
                </a:solidFill>
                <a:uFillTx/>
                <a:latin typeface="Monotype Corsiva"/>
              </a:rPr>
              <a:t>крепкое здоровье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1" name="Picture 7" descr="aee36fd9ad4f343ebeb4c08bf03607ed"/>
          <p:cNvPicPr/>
          <p:nvPr/>
        </p:nvPicPr>
        <p:blipFill>
          <a:blip r:embed="rId1"/>
          <a:stretch/>
        </p:blipFill>
        <p:spPr>
          <a:xfrm>
            <a:off x="7086600" y="4800600"/>
            <a:ext cx="171468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CCCP_150dpi"/>
          <p:cNvPicPr/>
          <p:nvPr/>
        </p:nvPicPr>
        <p:blipFill>
          <a:blip r:embed="rId1"/>
          <a:stretch/>
        </p:blipFill>
        <p:spPr>
          <a:xfrm>
            <a:off x="228600" y="533520"/>
            <a:ext cx="3962520" cy="5333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4419720" y="380880"/>
            <a:ext cx="47242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Древнегреческий             философ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03030"/>
                </a:solidFill>
                <a:uFillTx/>
                <a:latin typeface="Monotype Corsiva"/>
              </a:rPr>
              <a:t>Фалес   Милетский</a:t>
            </a:r>
            <a:r>
              <a:rPr b="1" i="1" lang="ru-RU" sz="4000" spc="-1" strike="noStrike">
                <a:solidFill>
                  <a:srgbClr val="303030"/>
                </a:solidFill>
                <a:latin typeface="Monotype Corsiv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счастлив тот,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кто здоров телом,  восприимчив душой и  податлив 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воспитани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5" name="Picture 5" descr="smiley-thinking-2.png (110×105)"/>
          <p:cNvPicPr/>
          <p:nvPr/>
        </p:nvPicPr>
        <p:blipFill>
          <a:blip r:embed="rId1"/>
          <a:stretch/>
        </p:blipFill>
        <p:spPr>
          <a:xfrm>
            <a:off x="152280" y="609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smiley-thinking.png (110×110)"/>
          <p:cNvPicPr/>
          <p:nvPr/>
        </p:nvPicPr>
        <p:blipFill>
          <a:blip r:embed="rId2"/>
          <a:stretch/>
        </p:blipFill>
        <p:spPr>
          <a:xfrm>
            <a:off x="7696080" y="5410080"/>
            <a:ext cx="1276560" cy="12765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8"/>
          <p:cNvSpPr/>
          <p:nvPr/>
        </p:nvSpPr>
        <p:spPr>
          <a:xfrm>
            <a:off x="2270160" y="1022400"/>
            <a:ext cx="29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676520" y="457200"/>
            <a:ext cx="6933960" cy="71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По данным ежегодного доклада Государственного комитета РФ по делам молодежи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меньшение числа населения, ухудшение здоровья молодежи приводит к негативным тенденциям сохранения генофонда нации, что, в свою очередь, может составить угрозу для развития, модернизации стран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этой связи поднимается вопрос о необходимости выработки специальной государственной политики по формированию здорового образа жизни молодеж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ObrazGizny"/>
          <p:cNvPicPr/>
          <p:nvPr/>
        </p:nvPicPr>
        <p:blipFill>
          <a:blip r:embed="rId1"/>
          <a:stretch/>
        </p:blipFill>
        <p:spPr>
          <a:xfrm>
            <a:off x="0" y="457200"/>
            <a:ext cx="922032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914400" y="-45648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основы здорового образа жизн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ходят такие понятия как :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33520" y="1144800"/>
            <a:ext cx="8153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спитание здоровых привычек и навыков с раннего детства 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езопасная и благоприятная окружающая сред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каз от вредных привычек- употребления алкоголя, курения, употребления наркотик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меренное питани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изически активная жизн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блюдение правил общественной и личной гигиен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8" descr="71663365_1299447200_366032"/>
          <p:cNvPicPr/>
          <p:nvPr/>
        </p:nvPicPr>
        <p:blipFill>
          <a:blip r:embed="rId1"/>
          <a:stretch/>
        </p:blipFill>
        <p:spPr>
          <a:xfrm>
            <a:off x="7086600" y="304920"/>
            <a:ext cx="1549440" cy="167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animated-gifs-justice-023"/>
          <p:cNvPicPr/>
          <p:nvPr/>
        </p:nvPicPr>
        <p:blipFill>
          <a:blip r:embed="rId2"/>
          <a:stretch/>
        </p:blipFill>
        <p:spPr>
          <a:xfrm>
            <a:off x="762120" y="2362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animated-gifs-justice-023"/>
          <p:cNvPicPr/>
          <p:nvPr/>
        </p:nvPicPr>
        <p:blipFill>
          <a:blip r:embed="rId3"/>
          <a:stretch/>
        </p:blipFill>
        <p:spPr>
          <a:xfrm>
            <a:off x="228600" y="30481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animated-gifs-justice-023"/>
          <p:cNvPicPr/>
          <p:nvPr/>
        </p:nvPicPr>
        <p:blipFill>
          <a:blip r:embed="rId4"/>
          <a:stretch/>
        </p:blipFill>
        <p:spPr>
          <a:xfrm>
            <a:off x="762120" y="3505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animated-gifs-justice-023"/>
          <p:cNvPicPr/>
          <p:nvPr/>
        </p:nvPicPr>
        <p:blipFill>
          <a:blip r:embed="rId5"/>
          <a:stretch/>
        </p:blipFill>
        <p:spPr>
          <a:xfrm>
            <a:off x="152280" y="41148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animated-gifs-justice-023"/>
          <p:cNvPicPr/>
          <p:nvPr/>
        </p:nvPicPr>
        <p:blipFill>
          <a:blip r:embed="rId6"/>
          <a:stretch/>
        </p:blipFill>
        <p:spPr>
          <a:xfrm>
            <a:off x="152280" y="5105520"/>
            <a:ext cx="495360" cy="533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animated-gifs-justice-023"/>
          <p:cNvPicPr/>
          <p:nvPr/>
        </p:nvPicPr>
        <p:blipFill>
          <a:blip r:embed="rId7"/>
          <a:stretch/>
        </p:blipFill>
        <p:spPr>
          <a:xfrm>
            <a:off x="762120" y="4572000"/>
            <a:ext cx="49536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291716560_1d1a78c561_1756778d18d3cdba0f27da485f0d974a_6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65040" y="2514600"/>
            <a:ext cx="247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амое сложное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8"/>
          <p:cNvSpPr/>
          <p:nvPr/>
        </p:nvSpPr>
        <p:spPr>
          <a:xfrm rot="19939200">
            <a:off x="5394240" y="3717720"/>
            <a:ext cx="32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тказаться от вредных привычек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9"/>
          <p:cNvSpPr/>
          <p:nvPr/>
        </p:nvSpPr>
        <p:spPr>
          <a:xfrm rot="1595400">
            <a:off x="517320" y="685800"/>
            <a:ext cx="25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Алкоголь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10"/>
          <p:cNvSpPr/>
          <p:nvPr/>
        </p:nvSpPr>
        <p:spPr>
          <a:xfrm rot="20149800">
            <a:off x="6400800" y="685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Куре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1"/>
          <p:cNvSpPr/>
          <p:nvPr/>
        </p:nvSpPr>
        <p:spPr>
          <a:xfrm rot="20225400">
            <a:off x="411840" y="45817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Наркотик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1657440" y="201600"/>
            <a:ext cx="535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7" descr="79857"/>
          <p:cNvPicPr/>
          <p:nvPr/>
        </p:nvPicPr>
        <p:blipFill>
          <a:blip r:embed="rId1"/>
          <a:stretch/>
        </p:blipFill>
        <p:spPr>
          <a:xfrm>
            <a:off x="-533520" y="-60948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8"/>
          <p:cNvSpPr/>
          <p:nvPr/>
        </p:nvSpPr>
        <p:spPr>
          <a:xfrm>
            <a:off x="380880" y="21463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ществует статистика, что каждая десятая будущая мама принимает наркотики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асто в семьях наркоманов ребенок подвергается физическому насилию, что заставляет его испытывать страх и наносит огромный вред детской психи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равнение со своими сверстниками заставляет детей наркоманов чувствовать себя ущербными и никому не нужными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ети наркоманов почти всегда идут по стопам родителей - становятся наркоманами, попадают в тюрьмы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2133720" y="23976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6" descr="79857"/>
          <p:cNvPicPr/>
          <p:nvPr/>
        </p:nvPicPr>
        <p:blipFill>
          <a:blip r:embed="rId1"/>
          <a:stretch/>
        </p:blipFill>
        <p:spPr>
          <a:xfrm>
            <a:off x="-152280" y="21337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7"/>
          <p:cNvSpPr/>
          <p:nvPr/>
        </p:nvSpPr>
        <p:spPr>
          <a:xfrm>
            <a:off x="2666880" y="2057400"/>
            <a:ext cx="5715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, как психоактивное вещество, оказывает пагубное влияние на функции многих систем организ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замедляет работу нервной системы мозга, поражает печень, слизистую оболочку желуд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отрицательно влияет на репродуктивную функцию как мужчин, так и женщин, что приводит к бесплодию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6-04T06:16:2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