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gif" ContentType="image/gif"/>
  <Override PartName="/ppt/media/image10.jpeg" ContentType="image/jpeg"/>
  <Override PartName="/ppt/media/image5.png" ContentType="image/png"/>
  <Override PartName="/ppt/media/image9.gif" ContentType="image/gif"/>
  <Override PartName="/ppt/media/image19.png" ContentType="image/png"/>
  <Override PartName="/ppt/media/image17.gif" ContentType="image/gif"/>
  <Override PartName="/ppt/media/image16.jpeg" ContentType="image/jpeg"/>
  <Override PartName="/ppt/media/image15.jpeg" ContentType="image/jpeg"/>
  <Override PartName="/ppt/media/image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3.gif" ContentType="image/gif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1DAD-6D23-40CC-BD6B-0CDA1EFB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1F18-2702-4D0D-AE40-D5A9B917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CDAB-5612-40E0-B15C-1BB9C9943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8BC9-0522-483B-905E-F62B9B46E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C166-1C87-4774-815C-743F22867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71F9-27B9-4146-91FE-F67A5F7A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F838-4AC3-4B52-9320-29366898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5C23-D0A0-4E7D-A723-88753947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4E02-0D33-4A09-A831-2194706A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C0E5-61D2-42B6-88BD-F2027C20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6ECD-7FB4-45A0-8263-400576F6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5988-C3C5-4BBE-B1A9-0CFF3171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B03D-210C-4977-B5E0-0CB648E8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FFB9-E8FB-4C47-84D3-59AC5295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2ACB-0BCD-4023-8362-2BEA57EF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3DA7-6815-43F5-B24A-6C6EB1400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7043-BCAC-4CEC-9D4A-D359F1072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CC4CE-7BBD-4A6A-8073-5AA775ACA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589F9-D7A5-471F-8763-46F6CC31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93561-1826-4134-A55F-C666F0F1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5FABA-F325-4E2C-A623-E1155F36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22605-5708-4BDD-B5E6-94ADAB33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D3A0-CD03-497B-B9CB-C4C54DDA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91242-3784-4F1E-A8C4-8F6BFECB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468BA-2EE5-4CF9-A211-800427E6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6E241-5826-4513-AC74-8D60D823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EADC9-F1C9-4F20-AF31-1FD0CCC0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C6E2E-9727-425D-82BE-2D75234D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26DC4-007B-47E8-860C-5982A2E81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EC16B-B818-4F44-BE02-A0B09BD9B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211B5-9512-4D7E-9676-138540C36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5B9C9-B243-4CB1-A9A5-6FD02004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94C26-53CD-4172-96DB-F1F70E88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FCC6-832F-4A22-BF3D-9F0EA695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FEDF6-A03B-46F5-87CB-95C9C895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900D2-2B81-4C3B-BF4F-0D0A0F01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C8F1A-5467-4BD5-88F8-289530FE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00FF3-F009-4BCB-8EEE-82FA5DD0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EC4A8-BCFE-40FA-B977-5A17731A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FB8BE-4849-45CF-A6BD-0182E25E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C6AE2-D01D-4D59-BA9D-EAF5EAD9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A0E11-435D-42D6-BED0-C809E192F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09848-FBD8-446C-8C67-420234390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CA089-C130-42CE-A6E1-F353F8F84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B1C0-E483-43D1-A408-6967ABDE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2773D-159F-473D-B7A1-C1823743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750BA-E006-4644-A50B-A50AC82E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A3DAD-B226-4151-B48F-9FA25984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2E93F-5464-4E93-9733-30F40D9A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8084A-2486-4EA4-A096-176E00FA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0216D-F1FF-4FEB-AA6B-821820D8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C71C9-42A6-445F-886F-975141A4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97B76-7833-425B-88F8-48A902B9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E416C-687E-440B-8F3F-36815E8C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E4D01-C28E-4721-B4DD-3D713D91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4A0B-62AD-4C44-B2CD-9C386DE9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D08FB-B196-4C86-9213-8FFFC5B49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BB15-9DE3-40AE-A098-C1DCA3FB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7050-E752-44D1-9665-DE18A253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0D46-132C-4CD5-A5E2-090258DA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EA7F-5839-4671-B8D9-3391FB19CAAC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D4E9-26BC-4003-9DB1-DBF364687039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7711-9DD5-4D60-A7A4-9EE3B053B1D0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traight Connector 10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90E4-C78E-402B-80BE-D8D47D8B5AB8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7826-C0AA-47B4-A64C-CD23EEBEFFDD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3520" y="3062160"/>
            <a:ext cx="89917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Monotype Corsiva"/>
              </a:rPr>
              <a:t>«Миссия жить!»</a:t>
            </a:r>
            <a:br>
              <a:rPr sz="7200"/>
            </a:br>
            <a:br>
              <a:rPr sz="8000"/>
            </a:br>
            <a:endParaRPr b="0" lang="en-US" sz="72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19" name="Рисунок 5" descr="misli_html_m658e97f.gif"/>
          <p:cNvPicPr/>
          <p:nvPr/>
        </p:nvPicPr>
        <p:blipFill>
          <a:blip r:embed="rId1"/>
          <a:stretch/>
        </p:blipFill>
        <p:spPr>
          <a:xfrm>
            <a:off x="3276720" y="3276720"/>
            <a:ext cx="267012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4"/>
          <p:cNvSpPr/>
          <p:nvPr/>
        </p:nvSpPr>
        <p:spPr>
          <a:xfrm>
            <a:off x="2133720" y="152280"/>
            <a:ext cx="4647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Только задумайтесь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2" name="Picture 5" descr="79857"/>
          <p:cNvPicPr/>
          <p:nvPr/>
        </p:nvPicPr>
        <p:blipFill>
          <a:blip r:embed="rId1"/>
          <a:stretch/>
        </p:blipFill>
        <p:spPr>
          <a:xfrm>
            <a:off x="-457200" y="205740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6"/>
          <p:cNvSpPr/>
          <p:nvPr/>
        </p:nvSpPr>
        <p:spPr>
          <a:xfrm>
            <a:off x="2286000" y="1860480"/>
            <a:ext cx="6172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о статистике в нашей стране курят около 60% мужчин и 50-55% женщи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урение табака представляет серьезную угрозу для здоровья челове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Дым табака содержит около 3 тысяч  химических веществ, которые повреждают живые ткани челове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икотин – один из самых ядовитых веществ, который во время курения всасывается из легких в кровь в течение 7 секунд и проникает во все органы организм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о время курения происходит сужение сосудов головного мозга, что повышает кровяное давле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ыкуривание одной сигареты приводит к учащению пульса на 18-20 ударов в минут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0027-027-Fotografii-ljudej-do-i-posle-togo-kak-oni-nachali-prinimat-narkoti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1327878049_0_77549_c409d38f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5"/>
          <p:cNvSpPr/>
          <p:nvPr/>
        </p:nvSpPr>
        <p:spPr>
          <a:xfrm>
            <a:off x="380880" y="34596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Дети Белгорода против вредных привычек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457200" y="990720"/>
            <a:ext cx="8321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 Белгороде за борьбу с наркотиками и алкоголем взялись юные жители горо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«Нет вредным привычкам!»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казали белгородские дети и нарисовал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множество плакатов и комиксо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на заданную тему, пытаясь тем самым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остучаться до своих же сверстников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употребляющих наркотики и алкогол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3429000" y="4038480"/>
            <a:ext cx="5486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Третья городская выставка «Наше здоровье в наших руках» объедини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молодых художников из 33 школ Белгорода. Свыше 200 работ в экспози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ссказывают о вреде наркотиков, табака и алкоголя, о пользе занятий спортом и здорового, позитивного  образа жизн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9" name="Picture 9" descr="12294288276042"/>
          <p:cNvPicPr/>
          <p:nvPr/>
        </p:nvPicPr>
        <p:blipFill>
          <a:blip r:embed="rId1"/>
          <a:stretch/>
        </p:blipFill>
        <p:spPr>
          <a:xfrm>
            <a:off x="152280" y="419112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1" descr="1549_2986"/>
          <p:cNvPicPr/>
          <p:nvPr/>
        </p:nvPicPr>
        <p:blipFill>
          <a:blip r:embed="rId2"/>
          <a:stretch/>
        </p:blipFill>
        <p:spPr>
          <a:xfrm>
            <a:off x="5638680" y="1371600"/>
            <a:ext cx="274320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0035_015_zdorovyj_obraz_zhizni_shkolnika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5"/>
          <p:cNvSpPr/>
          <p:nvPr/>
        </p:nvSpPr>
        <p:spPr>
          <a:xfrm>
            <a:off x="1203480" y="6280200"/>
            <a:ext cx="672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А что выбираешь ты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" name="Picture 9" descr="d7aca78f3587"/>
          <p:cNvPicPr/>
          <p:nvPr/>
        </p:nvPicPr>
        <p:blipFill>
          <a:blip r:embed="rId2"/>
          <a:stretch/>
        </p:blipFill>
        <p:spPr>
          <a:xfrm rot="19644000">
            <a:off x="2057400" y="380520"/>
            <a:ext cx="1380960" cy="981360"/>
          </a:xfrm>
          <a:prstGeom prst="rect">
            <a:avLst/>
          </a:prstGeom>
          <a:ln w="0">
            <a:noFill/>
          </a:ln>
        </p:spPr>
      </p:pic>
      <p:pic>
        <p:nvPicPr>
          <p:cNvPr id="264" name="rojdestvo_-_ti_znaesh_tak_hochetsya_jit.mp3" descr=""/>
          <p:cNvPicPr/>
          <p:nvPr/>
        </p:nvPicPr>
        <p:blipFill>
          <a:blip r:embed="rId3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5074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5" descr="37774_m"/>
          <p:cNvPicPr/>
          <p:nvPr/>
        </p:nvPicPr>
        <p:blipFill>
          <a:blip r:embed="rId1"/>
          <a:stretch/>
        </p:blipFill>
        <p:spPr>
          <a:xfrm>
            <a:off x="2514600" y="1905120"/>
            <a:ext cx="4143240" cy="42670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6"/>
          <p:cNvSpPr/>
          <p:nvPr/>
        </p:nvSpPr>
        <p:spPr>
          <a:xfrm>
            <a:off x="609480" y="68580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680" y="4724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262626"/>
                </a:solidFill>
                <a:latin typeface="Monotype Corsiva"/>
              </a:rPr>
              <a:t>Слово «миссия» происходит от латыни:                       miss – послать. </a:t>
            </a:r>
            <a:br>
              <a:rPr sz="3600"/>
            </a:br>
            <a:r>
              <a:rPr b="1" i="1" lang="ru-RU" sz="3600" spc="-1" strike="noStrike">
                <a:solidFill>
                  <a:srgbClr val="262626"/>
                </a:solidFill>
                <a:latin typeface="Monotype Corsiva"/>
              </a:rPr>
              <a:t>Это означает, что люди живут не просто так, </a:t>
            </a:r>
            <a:br>
              <a:rPr sz="3600"/>
            </a:br>
            <a:r>
              <a:rPr b="1" i="1" lang="ru-RU" sz="3600" spc="-1" strike="noStrike">
                <a:solidFill>
                  <a:srgbClr val="262626"/>
                </a:solidFill>
                <a:latin typeface="Monotype Corsiva"/>
              </a:rPr>
              <a:t>мы посланы на землю с определённым заданием, которое необходимо выполнить в течение жизни.</a:t>
            </a: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Monotype Corsiva"/>
              </a:rPr>
              <a:t>А для этого нужно в первую очередь </a:t>
            </a: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Monotype Corsiva"/>
              </a:rPr>
              <a:t>иметь </a:t>
            </a:r>
            <a:br>
              <a:rPr sz="3600"/>
            </a:br>
            <a:r>
              <a:rPr b="1" lang="ru-RU" sz="3600" spc="-1" strike="noStrike" u="sng">
                <a:solidFill>
                  <a:srgbClr val="262626"/>
                </a:solidFill>
                <a:uFillTx/>
                <a:latin typeface="Monotype Corsiva"/>
              </a:rPr>
              <a:t>крепкое здоровье</a:t>
            </a:r>
            <a:endParaRPr b="0" lang="en-US" sz="36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21" name="Picture 7" descr="aee36fd9ad4f343ebeb4c08bf03607ed"/>
          <p:cNvPicPr/>
          <p:nvPr/>
        </p:nvPicPr>
        <p:blipFill>
          <a:blip r:embed="rId1"/>
          <a:stretch/>
        </p:blipFill>
        <p:spPr>
          <a:xfrm>
            <a:off x="7086600" y="4800600"/>
            <a:ext cx="1714680" cy="1895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CCCP_150dpi"/>
          <p:cNvPicPr/>
          <p:nvPr/>
        </p:nvPicPr>
        <p:blipFill>
          <a:blip r:embed="rId1"/>
          <a:stretch/>
        </p:blipFill>
        <p:spPr>
          <a:xfrm>
            <a:off x="228600" y="533520"/>
            <a:ext cx="3962520" cy="53337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4419720" y="380880"/>
            <a:ext cx="47242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Древнегреческий             философ 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303030"/>
                </a:solidFill>
                <a:uFillTx/>
                <a:latin typeface="Monotype Corsiva"/>
              </a:rPr>
              <a:t>Фалес   Милетский</a:t>
            </a:r>
            <a:r>
              <a:rPr b="1" i="1" lang="ru-RU" sz="4000" spc="-1" strike="noStrike">
                <a:solidFill>
                  <a:srgbClr val="303030"/>
                </a:solidFill>
                <a:latin typeface="Monotype Corsiv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счастлив тот,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     </a:t>
            </a: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кто здоров телом,  восприимчив душой и  податлив н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     </a:t>
            </a: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воспитание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25" name="Picture 5" descr="smiley-thinking-2.png (110×105)"/>
          <p:cNvPicPr/>
          <p:nvPr/>
        </p:nvPicPr>
        <p:blipFill>
          <a:blip r:embed="rId1"/>
          <a:stretch/>
        </p:blipFill>
        <p:spPr>
          <a:xfrm>
            <a:off x="152280" y="609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smiley-thinking.png (110×110)"/>
          <p:cNvPicPr/>
          <p:nvPr/>
        </p:nvPicPr>
        <p:blipFill>
          <a:blip r:embed="rId2"/>
          <a:stretch/>
        </p:blipFill>
        <p:spPr>
          <a:xfrm>
            <a:off x="7696080" y="5410080"/>
            <a:ext cx="1276560" cy="12765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8"/>
          <p:cNvSpPr/>
          <p:nvPr/>
        </p:nvSpPr>
        <p:spPr>
          <a:xfrm>
            <a:off x="2270160" y="1022400"/>
            <a:ext cx="291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676520" y="457200"/>
            <a:ext cx="6933960" cy="71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По данным ежегодного доклада Государственного комитета РФ по делам молодежи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уменьшение числа населения, ухудшение здоровья молодежи приводит к негативным тенденциям сохранения генофонда нации, что, в свою очередь, может составить угрозу для развития, модернизации стран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 этой связи поднимается вопрос о необходимости выработки специальной государственной политики по формированию здорового образа жизни молодеж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ObrazGizny"/>
          <p:cNvPicPr/>
          <p:nvPr/>
        </p:nvPicPr>
        <p:blipFill>
          <a:blip r:embed="rId1"/>
          <a:stretch/>
        </p:blipFill>
        <p:spPr>
          <a:xfrm>
            <a:off x="0" y="457200"/>
            <a:ext cx="9220320" cy="6019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/>
          <p:cNvSpPr/>
          <p:nvPr/>
        </p:nvSpPr>
        <p:spPr>
          <a:xfrm>
            <a:off x="914400" y="-456480"/>
            <a:ext cx="5943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В </a:t>
            </a: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основы здорового образа жизни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входят такие понятия как :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533520" y="1144800"/>
            <a:ext cx="8153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спитание здоровых привычек и навыков с раннего детства 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езопасная и благоприятная окружающая сред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каз от вредных привычек- употребления алкоголя, курения, употребления наркотиков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меренное питание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изически активная жизнь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блюдение правил общественной и личной гигиен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Picture 8" descr="71663365_1299447200_366032"/>
          <p:cNvPicPr/>
          <p:nvPr/>
        </p:nvPicPr>
        <p:blipFill>
          <a:blip r:embed="rId1"/>
          <a:stretch/>
        </p:blipFill>
        <p:spPr>
          <a:xfrm>
            <a:off x="7086600" y="304920"/>
            <a:ext cx="1549440" cy="1676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animated-gifs-justice-023"/>
          <p:cNvPicPr/>
          <p:nvPr/>
        </p:nvPicPr>
        <p:blipFill>
          <a:blip r:embed="rId2"/>
          <a:stretch/>
        </p:blipFill>
        <p:spPr>
          <a:xfrm>
            <a:off x="762120" y="2362320"/>
            <a:ext cx="423720" cy="457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animated-gifs-justice-023"/>
          <p:cNvPicPr/>
          <p:nvPr/>
        </p:nvPicPr>
        <p:blipFill>
          <a:blip r:embed="rId3"/>
          <a:stretch/>
        </p:blipFill>
        <p:spPr>
          <a:xfrm>
            <a:off x="228600" y="3048120"/>
            <a:ext cx="423720" cy="457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1" descr="animated-gifs-justice-023"/>
          <p:cNvPicPr/>
          <p:nvPr/>
        </p:nvPicPr>
        <p:blipFill>
          <a:blip r:embed="rId4"/>
          <a:stretch/>
        </p:blipFill>
        <p:spPr>
          <a:xfrm>
            <a:off x="762120" y="3505320"/>
            <a:ext cx="423720" cy="457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2" descr="animated-gifs-justice-023"/>
          <p:cNvPicPr/>
          <p:nvPr/>
        </p:nvPicPr>
        <p:blipFill>
          <a:blip r:embed="rId5"/>
          <a:stretch/>
        </p:blipFill>
        <p:spPr>
          <a:xfrm>
            <a:off x="152280" y="4114800"/>
            <a:ext cx="495360" cy="533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3" descr="animated-gifs-justice-023"/>
          <p:cNvPicPr/>
          <p:nvPr/>
        </p:nvPicPr>
        <p:blipFill>
          <a:blip r:embed="rId6"/>
          <a:stretch/>
        </p:blipFill>
        <p:spPr>
          <a:xfrm>
            <a:off x="152280" y="5105520"/>
            <a:ext cx="495360" cy="5331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4" descr="animated-gifs-justice-023"/>
          <p:cNvPicPr/>
          <p:nvPr/>
        </p:nvPicPr>
        <p:blipFill>
          <a:blip r:embed="rId7"/>
          <a:stretch/>
        </p:blipFill>
        <p:spPr>
          <a:xfrm>
            <a:off x="762120" y="4572000"/>
            <a:ext cx="495360" cy="533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291716560_1d1a78c561_1756778d18d3cdba0f27da485f0d974a_6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7"/>
          <p:cNvSpPr/>
          <p:nvPr/>
        </p:nvSpPr>
        <p:spPr>
          <a:xfrm>
            <a:off x="365040" y="2514600"/>
            <a:ext cx="247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Самое сложное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Text Box 8"/>
          <p:cNvSpPr/>
          <p:nvPr/>
        </p:nvSpPr>
        <p:spPr>
          <a:xfrm rot="19939200">
            <a:off x="5394240" y="3717720"/>
            <a:ext cx="324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отказаться от вредных привычек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9"/>
          <p:cNvSpPr/>
          <p:nvPr/>
        </p:nvSpPr>
        <p:spPr>
          <a:xfrm rot="1595400">
            <a:off x="517320" y="685800"/>
            <a:ext cx="256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Алкоголь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10"/>
          <p:cNvSpPr/>
          <p:nvPr/>
        </p:nvSpPr>
        <p:spPr>
          <a:xfrm rot="20149800">
            <a:off x="6400800" y="6854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Курени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11"/>
          <p:cNvSpPr/>
          <p:nvPr/>
        </p:nvSpPr>
        <p:spPr>
          <a:xfrm rot="20225400">
            <a:off x="411840" y="458172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Наркотики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4"/>
          <p:cNvSpPr/>
          <p:nvPr/>
        </p:nvSpPr>
        <p:spPr>
          <a:xfrm>
            <a:off x="1657440" y="201600"/>
            <a:ext cx="5352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Только задумайтесь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6" name="Picture 7" descr="79857"/>
          <p:cNvPicPr/>
          <p:nvPr/>
        </p:nvPicPr>
        <p:blipFill>
          <a:blip r:embed="rId1"/>
          <a:stretch/>
        </p:blipFill>
        <p:spPr>
          <a:xfrm>
            <a:off x="-533520" y="-609480"/>
            <a:ext cx="3353040" cy="33526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8"/>
          <p:cNvSpPr/>
          <p:nvPr/>
        </p:nvSpPr>
        <p:spPr>
          <a:xfrm>
            <a:off x="380880" y="214632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уществует статистика, что каждая десятая будущая мама принимает наркотики. 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Часто в семьях наркоманов ребенок подвергается физическому насилию, что заставляет его испытывать страх и наносит огромный вред детской психик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равнение со своими сверстниками заставляет детей наркоманов чувствовать себя ущербными и никому не нужными.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ети наркоманов почти всегда идут по стопам родителей - становятся наркоманами, попадают в тюрьмы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"/>
          <p:cNvSpPr/>
          <p:nvPr/>
        </p:nvSpPr>
        <p:spPr>
          <a:xfrm>
            <a:off x="2133720" y="239760"/>
            <a:ext cx="525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Только задумайтесь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6" descr="79857"/>
          <p:cNvPicPr/>
          <p:nvPr/>
        </p:nvPicPr>
        <p:blipFill>
          <a:blip r:embed="rId1"/>
          <a:stretch/>
        </p:blipFill>
        <p:spPr>
          <a:xfrm>
            <a:off x="-152280" y="21337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7"/>
          <p:cNvSpPr/>
          <p:nvPr/>
        </p:nvSpPr>
        <p:spPr>
          <a:xfrm>
            <a:off x="2666880" y="2057400"/>
            <a:ext cx="5715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лкоголь, как психоактивное вещество, оказывает пагубное влияние на функции многих систем организм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лкоголь замедляет работу нервной системы мозга, поражает печень, слизистую оболочку желуд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лкоголь отрицательно влияет на репродуктивную функцию как мужчин, так и женщин, что приводит к бесплодию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0-06-04T06:16:2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