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gif" ContentType="image/gif"/>
  <Override PartName="/ppt/media/image10.jpeg" ContentType="image/jpeg"/>
  <Override PartName="/ppt/media/image5.png" ContentType="image/png"/>
  <Override PartName="/ppt/media/image9.gif" ContentType="image/gif"/>
  <Override PartName="/ppt/media/image19.png" ContentType="image/png"/>
  <Override PartName="/ppt/media/image17.gif" ContentType="image/gif"/>
  <Override PartName="/ppt/media/image16.jpeg" ContentType="image/jpeg"/>
  <Override PartName="/ppt/media/image15.jpeg" ContentType="image/jpeg"/>
  <Override PartName="/ppt/media/image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3.gif" ContentType="image/gif"/>
  <Override PartName="/ppt/media/image6.png" ContentType="image/png"/>
  <Override PartName="/ppt/media/image18.png" ContentType="image/png"/>
  <Override PartName="/ppt/media/image7.jpeg" ContentType="image/jpe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953E-26BB-443C-87C2-3292E1630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1AB2-AF21-47B7-AFF4-8A36AE75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56CB-3AF5-4D77-A56B-CA633A859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4CBA-937C-4C0C-9C54-D418B7D1C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1709-BE9E-475C-94FD-38D3AEC08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9FFBA-F206-40F8-B1CD-53C8E6D2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82A6-7725-42F0-958F-BDD2A553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6097-DDE8-4C47-B10D-EFB0EF80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C0D4-66AA-4549-BDF9-566E9034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EB90-13C4-4802-B8E3-087D6EB4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9EF8-174E-4A5A-B361-DF5B5399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E5F0-B709-4D38-8229-87E7EF4C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78842-7C97-48BF-A2B2-D9BC7760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9A38-2FC2-4B39-A1D1-2693C85C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31B01-FA7D-400D-84FF-BAF8801C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0484-59D4-430E-9F42-F21EC9F92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5622-2CB3-4331-9859-8109A6301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4B552-B75F-43D4-B9A4-73D66DFDC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C4CE0-5539-40A1-8AEF-4740CA31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E1DA0-6174-4472-91FA-9CF58862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7C6E2-ADA0-474B-BA15-AA058539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223BA-F162-47AD-BDE4-4F1E1F9D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1BC5-7057-4A26-9533-F2C2AB92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22792-8A52-4FBD-9C74-C23E2F25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8B69F-A13B-4795-AECD-B1607216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CADC2-3137-45C2-BEDA-BDC7A1DD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E4C72-FC37-42AC-88BD-49248FB0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27ED1-E783-49D4-BA2C-8E5BA3DA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7BA57-488C-4C38-8E76-9A91E5B18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6E486-E515-466F-B6FD-A6B826077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D675F-8250-4989-8161-C698741B1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E947C-8FBD-4E02-AAFA-3C9C9DEA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AC928-5E20-4A08-9B4E-86AA6589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9405-C3DE-4E04-B1D7-78195FCA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0C691-2C3E-4E52-84AD-3ED5C538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B2E49-37E3-4FAB-9DDE-CBC2659F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B2B7F-96DC-473A-B345-0D60EE98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B7211-D763-4BFE-8D72-EF87E4C9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155BC-A2F8-413B-AC47-50FE8637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ED538-32E6-4A6A-BDBC-60AC80F8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45CAB-2332-4EA5-8DA9-194CAB3D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0A48A-0D72-4E2D-870F-8361A6F17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0BD01-B2A5-4CF5-9743-0BF8B4E68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08317-4619-42A3-B031-664D97781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441F-7927-4D9C-8210-E88F474A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C1C1D-1D1E-4299-A08D-5D145827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65763-68EA-42B6-8838-BB4FDCC6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1DF9C-4F13-4269-B8E2-DECF8F76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83AB6-C6B0-4B0F-B738-AC2394B3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048BF-59B1-4BDB-B169-3BF7A8C1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4C4AF-B3E0-499C-8C09-0549D1D7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B385B-885A-40F7-ACCD-57CDA7CE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F50C2-88F0-41E6-83F4-76FED494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C4E4A-8B48-4020-8446-1882CA52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0E064-AD20-43C4-A99B-BB048E339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ACA1-7DC3-4B60-A5BA-36398745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78A7A-AF1A-4254-B1D3-18F35D893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2CB1-6425-435C-8C3E-AD9494FC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F8D8-2651-4B26-B799-0E3D3993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D435-A068-4A51-BC6E-73E147A1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B501-7C2D-46C3-A512-472319A7C3FF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56A1-0EE3-4983-89C7-2772C56243F7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885B-4061-4738-934F-B925FE2CEACE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traight Connector 10"/>
          <p:cNvSpPr/>
          <p:nvPr/>
        </p:nvSpPr>
        <p:spPr>
          <a:xfrm>
            <a:off x="7588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46450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7444-423C-425C-BD80-E4499F659AC7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Straight Connector 9"/>
          <p:cNvSpPr/>
          <p:nvPr/>
        </p:nvSpPr>
        <p:spPr>
          <a:xfrm flipH="1">
            <a:off x="3580920" y="611280"/>
            <a:ext cx="1800" cy="3809880"/>
          </a:xfrm>
          <a:prstGeom prst="line">
            <a:avLst/>
          </a:prstGeom>
          <a:ln w="15840">
            <a:solidFill>
              <a:srgbClr val="989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A623-3DDA-47D7-9ADA-F22FBFBF94D1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3520" y="3062160"/>
            <a:ext cx="899172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Monotype Corsiva"/>
              </a:rPr>
              <a:t>«Миссия жить!»</a:t>
            </a:r>
            <a:br>
              <a:rPr sz="7200"/>
            </a:br>
            <a:br>
              <a:rPr sz="8000"/>
            </a:br>
            <a:endParaRPr b="0" lang="en-US" sz="72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19" name="Рисунок 5" descr="misli_html_m658e97f.gif"/>
          <p:cNvPicPr/>
          <p:nvPr/>
        </p:nvPicPr>
        <p:blipFill>
          <a:blip r:embed="rId1"/>
          <a:stretch/>
        </p:blipFill>
        <p:spPr>
          <a:xfrm>
            <a:off x="3276720" y="3276720"/>
            <a:ext cx="267012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4"/>
          <p:cNvSpPr/>
          <p:nvPr/>
        </p:nvSpPr>
        <p:spPr>
          <a:xfrm>
            <a:off x="2133720" y="152280"/>
            <a:ext cx="4647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Только задумайтесь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2" name="Picture 5" descr="79857"/>
          <p:cNvPicPr/>
          <p:nvPr/>
        </p:nvPicPr>
        <p:blipFill>
          <a:blip r:embed="rId1"/>
          <a:stretch/>
        </p:blipFill>
        <p:spPr>
          <a:xfrm>
            <a:off x="-457200" y="205740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6"/>
          <p:cNvSpPr/>
          <p:nvPr/>
        </p:nvSpPr>
        <p:spPr>
          <a:xfrm>
            <a:off x="2286000" y="1860480"/>
            <a:ext cx="61722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По статистике в нашей стране курят около 60% мужчин и 50-55% женщи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Курение табака представляет серьезную угрозу для здоровья челове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Дым табака содержит около 3 тысяч  химических веществ, которые повреждают живые ткани челове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Никотин – один из самых ядовитых веществ, который во время курения всасывается из легких в кровь в течение 7 секунд и проникает во все органы организм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о время курения происходит сужение сосудов головного мозга, что повышает кровяное давле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ыкуривание одной сигареты приводит к учащению пульса на 18-20 ударов в минут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0027-027-Fotografii-ljudej-do-i-posle-togo-kak-oni-nachali-prinimat-narkoti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1327878049_0_77549_c409d38f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5"/>
          <p:cNvSpPr/>
          <p:nvPr/>
        </p:nvSpPr>
        <p:spPr>
          <a:xfrm>
            <a:off x="380880" y="34596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Дети Белгорода против вредных привычек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457200" y="990720"/>
            <a:ext cx="8321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 Белгороде за борьбу с наркотиками и алкоголем взялись юные жители город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«Нет вредным привычкам!»-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казали белгородские дети и нарисовал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множество плакатов и комиксов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на заданную тему, пытаясь тем самым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остучаться до своих же сверстников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употребляющих наркотики и алкогол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3429000" y="4038480"/>
            <a:ext cx="5486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Третья городская выставка «Наше здоровье в наших руках» объединил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молодых художников из 33 школ Белгорода. Свыше 200 работ в экспози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ассказывают о вреде наркотиков, табака и алкоголя, о пользе занятий спортом и здорового, позитивного  образа жизн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9" name="Picture 9" descr="12294288276042"/>
          <p:cNvPicPr/>
          <p:nvPr/>
        </p:nvPicPr>
        <p:blipFill>
          <a:blip r:embed="rId1"/>
          <a:stretch/>
        </p:blipFill>
        <p:spPr>
          <a:xfrm>
            <a:off x="152280" y="419112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1" descr="1549_2986"/>
          <p:cNvPicPr/>
          <p:nvPr/>
        </p:nvPicPr>
        <p:blipFill>
          <a:blip r:embed="rId2"/>
          <a:stretch/>
        </p:blipFill>
        <p:spPr>
          <a:xfrm>
            <a:off x="5638680" y="1371600"/>
            <a:ext cx="2743200" cy="2133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0035_015_zdorovyj_obraz_zhizni_shkolnika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5"/>
          <p:cNvSpPr/>
          <p:nvPr/>
        </p:nvSpPr>
        <p:spPr>
          <a:xfrm>
            <a:off x="1203480" y="6280200"/>
            <a:ext cx="672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А что выбираешь ты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3" name="Picture 9" descr="d7aca78f3587"/>
          <p:cNvPicPr/>
          <p:nvPr/>
        </p:nvPicPr>
        <p:blipFill>
          <a:blip r:embed="rId2"/>
          <a:stretch/>
        </p:blipFill>
        <p:spPr>
          <a:xfrm rot="19644000">
            <a:off x="2057400" y="380520"/>
            <a:ext cx="1380960" cy="981360"/>
          </a:xfrm>
          <a:prstGeom prst="rect">
            <a:avLst/>
          </a:prstGeom>
          <a:ln w="0">
            <a:noFill/>
          </a:ln>
        </p:spPr>
      </p:pic>
      <p:pic>
        <p:nvPicPr>
          <p:cNvPr id="264" name="rojdestvo_-_ti_znaesh_tak_hochetsya_jit.mp3" descr=""/>
          <p:cNvPicPr/>
          <p:nvPr/>
        </p:nvPicPr>
        <p:blipFill>
          <a:blip r:embed="rId3"/>
          <a:stretch/>
        </p:blipFill>
        <p:spPr>
          <a:xfrm>
            <a:off x="86868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5074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5" descr="37774_m"/>
          <p:cNvPicPr/>
          <p:nvPr/>
        </p:nvPicPr>
        <p:blipFill>
          <a:blip r:embed="rId1"/>
          <a:stretch/>
        </p:blipFill>
        <p:spPr>
          <a:xfrm>
            <a:off x="2514600" y="1905120"/>
            <a:ext cx="4143240" cy="42670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6"/>
          <p:cNvSpPr/>
          <p:nvPr/>
        </p:nvSpPr>
        <p:spPr>
          <a:xfrm>
            <a:off x="609480" y="68580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680" y="4724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262626"/>
                </a:solidFill>
                <a:latin typeface="Monotype Corsiva"/>
              </a:rPr>
              <a:t>Слово «миссия» происходит от латыни:                       miss – послать. </a:t>
            </a:r>
            <a:br>
              <a:rPr sz="3600"/>
            </a:br>
            <a:r>
              <a:rPr b="1" i="1" lang="ru-RU" sz="3600" spc="-1" strike="noStrike">
                <a:solidFill>
                  <a:srgbClr val="262626"/>
                </a:solidFill>
                <a:latin typeface="Monotype Corsiva"/>
              </a:rPr>
              <a:t>Это означает, что люди живут не просто так, </a:t>
            </a:r>
            <a:br>
              <a:rPr sz="3600"/>
            </a:br>
            <a:r>
              <a:rPr b="1" i="1" lang="ru-RU" sz="3600" spc="-1" strike="noStrike">
                <a:solidFill>
                  <a:srgbClr val="262626"/>
                </a:solidFill>
                <a:latin typeface="Monotype Corsiva"/>
              </a:rPr>
              <a:t>мы посланы на землю с определённым заданием, которое необходимо выполнить в течение жизни.</a:t>
            </a:r>
            <a:br>
              <a:rPr sz="3600"/>
            </a:br>
            <a:r>
              <a:rPr b="1" lang="ru-RU" sz="3600" spc="-1" strike="noStrike">
                <a:solidFill>
                  <a:srgbClr val="262626"/>
                </a:solidFill>
                <a:latin typeface="Monotype Corsiva"/>
              </a:rPr>
              <a:t>А для этого нужно в первую очередь </a:t>
            </a:r>
            <a:br>
              <a:rPr sz="3600"/>
            </a:br>
            <a:r>
              <a:rPr b="1" lang="ru-RU" sz="3600" spc="-1" strike="noStrike">
                <a:solidFill>
                  <a:srgbClr val="262626"/>
                </a:solidFill>
                <a:latin typeface="Monotype Corsiva"/>
              </a:rPr>
              <a:t>иметь </a:t>
            </a:r>
            <a:br>
              <a:rPr sz="3600"/>
            </a:br>
            <a:r>
              <a:rPr b="1" lang="ru-RU" sz="3600" spc="-1" strike="noStrike" u="sng">
                <a:solidFill>
                  <a:srgbClr val="262626"/>
                </a:solidFill>
                <a:uFillTx/>
                <a:latin typeface="Monotype Corsiva"/>
              </a:rPr>
              <a:t>крепкое здоровье</a:t>
            </a:r>
            <a:endParaRPr b="0" lang="en-US" sz="36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21" name="Picture 7" descr="aee36fd9ad4f343ebeb4c08bf03607ed"/>
          <p:cNvPicPr/>
          <p:nvPr/>
        </p:nvPicPr>
        <p:blipFill>
          <a:blip r:embed="rId1"/>
          <a:stretch/>
        </p:blipFill>
        <p:spPr>
          <a:xfrm>
            <a:off x="7086600" y="4800600"/>
            <a:ext cx="1714680" cy="1895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CCCP_150dpi"/>
          <p:cNvPicPr/>
          <p:nvPr/>
        </p:nvPicPr>
        <p:blipFill>
          <a:blip r:embed="rId1"/>
          <a:stretch/>
        </p:blipFill>
        <p:spPr>
          <a:xfrm>
            <a:off x="228600" y="533520"/>
            <a:ext cx="3962520" cy="53337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4419720" y="380880"/>
            <a:ext cx="47242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Древнегреческий             философ 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303030"/>
                </a:solidFill>
                <a:uFillTx/>
                <a:latin typeface="Monotype Corsiva"/>
              </a:rPr>
              <a:t>Фалес   Милетский</a:t>
            </a:r>
            <a:r>
              <a:rPr b="1" i="1" lang="ru-RU" sz="4000" spc="-1" strike="noStrike">
                <a:solidFill>
                  <a:srgbClr val="303030"/>
                </a:solidFill>
                <a:latin typeface="Monotype Corsiva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счастлив тот,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     </a:t>
            </a: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кто здоров телом,  восприимчив душой и  податлив н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     </a:t>
            </a: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воспитание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25" name="Picture 5" descr="smiley-thinking-2.png (110×105)"/>
          <p:cNvPicPr/>
          <p:nvPr/>
        </p:nvPicPr>
        <p:blipFill>
          <a:blip r:embed="rId1"/>
          <a:stretch/>
        </p:blipFill>
        <p:spPr>
          <a:xfrm>
            <a:off x="152280" y="6094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smiley-thinking.png (110×110)"/>
          <p:cNvPicPr/>
          <p:nvPr/>
        </p:nvPicPr>
        <p:blipFill>
          <a:blip r:embed="rId2"/>
          <a:stretch/>
        </p:blipFill>
        <p:spPr>
          <a:xfrm>
            <a:off x="7696080" y="5410080"/>
            <a:ext cx="1276560" cy="127656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8"/>
          <p:cNvSpPr/>
          <p:nvPr/>
        </p:nvSpPr>
        <p:spPr>
          <a:xfrm>
            <a:off x="2270160" y="1022400"/>
            <a:ext cx="291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676520" y="457200"/>
            <a:ext cx="6933960" cy="71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По данным ежегодного доклада Государственного комитета РФ по делам молодежи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уменьшение числа населения, ухудшение здоровья молодежи приводит к негативным тенденциям сохранения генофонда нации, что, в свою очередь, может составить угрозу для развития, модернизации стран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 этой связи поднимается вопрос о необходимости выработки специальной государственной политики по формированию здорового образа жизни молодеж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ObrazGizny"/>
          <p:cNvPicPr/>
          <p:nvPr/>
        </p:nvPicPr>
        <p:blipFill>
          <a:blip r:embed="rId1"/>
          <a:stretch/>
        </p:blipFill>
        <p:spPr>
          <a:xfrm>
            <a:off x="0" y="457200"/>
            <a:ext cx="9220320" cy="6019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4"/>
          <p:cNvSpPr/>
          <p:nvPr/>
        </p:nvSpPr>
        <p:spPr>
          <a:xfrm>
            <a:off x="914400" y="-456480"/>
            <a:ext cx="5943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В </a:t>
            </a: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основы здорового образа жизни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входят такие понятия как :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533520" y="1144800"/>
            <a:ext cx="8153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спитание здоровых привычек и навыков с раннего детства 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езопасная и благоприятная окружающая сред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каз от вредных привычек- употребления алкоголя, курения, употребления наркотиков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меренное питание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изически активная жизнь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блюдение правил общественной и личной гигиен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2" name="Picture 8" descr="71663365_1299447200_366032"/>
          <p:cNvPicPr/>
          <p:nvPr/>
        </p:nvPicPr>
        <p:blipFill>
          <a:blip r:embed="rId1"/>
          <a:stretch/>
        </p:blipFill>
        <p:spPr>
          <a:xfrm>
            <a:off x="7086600" y="304920"/>
            <a:ext cx="1549440" cy="16761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animated-gifs-justice-023"/>
          <p:cNvPicPr/>
          <p:nvPr/>
        </p:nvPicPr>
        <p:blipFill>
          <a:blip r:embed="rId2"/>
          <a:stretch/>
        </p:blipFill>
        <p:spPr>
          <a:xfrm>
            <a:off x="762120" y="2362320"/>
            <a:ext cx="423720" cy="457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" descr="animated-gifs-justice-023"/>
          <p:cNvPicPr/>
          <p:nvPr/>
        </p:nvPicPr>
        <p:blipFill>
          <a:blip r:embed="rId3"/>
          <a:stretch/>
        </p:blipFill>
        <p:spPr>
          <a:xfrm>
            <a:off x="228600" y="3048120"/>
            <a:ext cx="423720" cy="457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1" descr="animated-gifs-justice-023"/>
          <p:cNvPicPr/>
          <p:nvPr/>
        </p:nvPicPr>
        <p:blipFill>
          <a:blip r:embed="rId4"/>
          <a:stretch/>
        </p:blipFill>
        <p:spPr>
          <a:xfrm>
            <a:off x="762120" y="3505320"/>
            <a:ext cx="423720" cy="4572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2" descr="animated-gifs-justice-023"/>
          <p:cNvPicPr/>
          <p:nvPr/>
        </p:nvPicPr>
        <p:blipFill>
          <a:blip r:embed="rId5"/>
          <a:stretch/>
        </p:blipFill>
        <p:spPr>
          <a:xfrm>
            <a:off x="152280" y="4114800"/>
            <a:ext cx="495360" cy="5335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3" descr="animated-gifs-justice-023"/>
          <p:cNvPicPr/>
          <p:nvPr/>
        </p:nvPicPr>
        <p:blipFill>
          <a:blip r:embed="rId6"/>
          <a:stretch/>
        </p:blipFill>
        <p:spPr>
          <a:xfrm>
            <a:off x="152280" y="5105520"/>
            <a:ext cx="495360" cy="5331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4" descr="animated-gifs-justice-023"/>
          <p:cNvPicPr/>
          <p:nvPr/>
        </p:nvPicPr>
        <p:blipFill>
          <a:blip r:embed="rId7"/>
          <a:stretch/>
        </p:blipFill>
        <p:spPr>
          <a:xfrm>
            <a:off x="762120" y="4572000"/>
            <a:ext cx="495360" cy="533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291716560_1d1a78c561_1756778d18d3cdba0f27da485f0d974a_6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7"/>
          <p:cNvSpPr/>
          <p:nvPr/>
        </p:nvSpPr>
        <p:spPr>
          <a:xfrm>
            <a:off x="365040" y="2514600"/>
            <a:ext cx="247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Самое сложное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Text Box 8"/>
          <p:cNvSpPr/>
          <p:nvPr/>
        </p:nvSpPr>
        <p:spPr>
          <a:xfrm rot="19939200">
            <a:off x="5394240" y="3717720"/>
            <a:ext cx="324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отказаться от вредных привычек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Text Box 9"/>
          <p:cNvSpPr/>
          <p:nvPr/>
        </p:nvSpPr>
        <p:spPr>
          <a:xfrm rot="1595400">
            <a:off x="517320" y="685800"/>
            <a:ext cx="256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Алкоголь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Text Box 10"/>
          <p:cNvSpPr/>
          <p:nvPr/>
        </p:nvSpPr>
        <p:spPr>
          <a:xfrm rot="20149800">
            <a:off x="6400800" y="6854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Курение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Text Box 11"/>
          <p:cNvSpPr/>
          <p:nvPr/>
        </p:nvSpPr>
        <p:spPr>
          <a:xfrm rot="20225400">
            <a:off x="411840" y="458172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Наркотики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4"/>
          <p:cNvSpPr/>
          <p:nvPr/>
        </p:nvSpPr>
        <p:spPr>
          <a:xfrm>
            <a:off x="1657440" y="201600"/>
            <a:ext cx="5352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Только задумайтесь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6" name="Picture 7" descr="79857"/>
          <p:cNvPicPr/>
          <p:nvPr/>
        </p:nvPicPr>
        <p:blipFill>
          <a:blip r:embed="rId1"/>
          <a:stretch/>
        </p:blipFill>
        <p:spPr>
          <a:xfrm>
            <a:off x="-533520" y="-609480"/>
            <a:ext cx="3353040" cy="33526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8"/>
          <p:cNvSpPr/>
          <p:nvPr/>
        </p:nvSpPr>
        <p:spPr>
          <a:xfrm>
            <a:off x="380880" y="214632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уществует статистика, что каждая десятая будущая мама принимает наркотики. 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Часто в семьях наркоманов ребенок подвергается физическому насилию, что заставляет его испытывать страх и наносит огромный вред детской психике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равнение со своими сверстниками заставляет детей наркоманов чувствовать себя ущербными и никому не нужными.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Дети наркоманов почти всегда идут по стопам родителей - становятся наркоманами, попадают в тюрьмы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5"/>
          <p:cNvSpPr/>
          <p:nvPr/>
        </p:nvSpPr>
        <p:spPr>
          <a:xfrm>
            <a:off x="2133720" y="239760"/>
            <a:ext cx="525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Только задумайтесь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6" descr="79857"/>
          <p:cNvPicPr/>
          <p:nvPr/>
        </p:nvPicPr>
        <p:blipFill>
          <a:blip r:embed="rId1"/>
          <a:stretch/>
        </p:blipFill>
        <p:spPr>
          <a:xfrm>
            <a:off x="-152280" y="213372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7"/>
          <p:cNvSpPr/>
          <p:nvPr/>
        </p:nvSpPr>
        <p:spPr>
          <a:xfrm>
            <a:off x="2666880" y="2057400"/>
            <a:ext cx="5715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лкоголь, как психоактивное вещество, оказывает пагубное влияние на функции многих систем организм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лкоголь замедляет работу нервной системы мозга, поражает печень, слизистую оболочку желуд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лкоголь отрицательно влияет на репродуктивную функцию как мужчин, так и женщин, что приводит к бесплодию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0-06-04T06:16:2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